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8AB3-CFF9-47B3-A313-08A197B7A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6786-4418-44C0-AB68-2E178F749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B9BA-049B-4C8F-8BE8-1E31BAE3B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865B-BCC3-4EA6-8DDF-27DF9061C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DE9A-C655-482C-B4BC-69E095DC9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885-8F9B-4730-8A54-955A4011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CF2-BEC7-4A24-82F5-0C1467F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EF1-23C1-4AB8-994D-88FFD9F7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3D2-79F6-4480-AAD2-E94F6CA0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818-F3D2-4302-91E5-311CD5A9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261-167A-4374-B72D-B5AD7BEE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B7A6-461D-44B9-BC8B-CF469A9F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8DA8-8F50-4703-BBDD-726A923C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2DCB-E2F8-4D06-825B-379B494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726-CBD2-4AAC-8E95-839E0F1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9F5-8DCC-42C1-B527-7F105000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C354-FBBE-40FC-A089-7CA179D2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98FD-CD9A-4DFB-9DE0-A1DAFCB90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773360"/>
            <a:ext cx="70549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超级电容器技术的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几个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149360"/>
            <a:ext cx="6400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杨裕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014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-4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13320"/>
            <a:ext cx="91440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超级电容器行业技术、标准及产业应用研讨会  宁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533520" y="685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电容炭主要靠进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IMG_0509-1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41119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1371600" y="47242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防化研究院中试连续性生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0e1e"/>
                </a:solidFill>
                <a:latin typeface="黑体"/>
                <a:ea typeface="黑体"/>
              </a:rPr>
              <a:t>超级电容器关键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19320" y="5486400"/>
            <a:ext cx="678168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BTR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公司工程化生产线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月通过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副标题 2"/>
          <p:cNvSpPr/>
          <p:nvPr/>
        </p:nvSpPr>
        <p:spPr>
          <a:xfrm>
            <a:off x="2571840" y="1785960"/>
            <a:ext cx="6357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1600200" y="1751040"/>
            <a:ext cx="59436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国产电解质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氟硼酸四乙基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型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甲基三乙基四氟硼酸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6"/>
          <p:cNvSpPr/>
          <p:nvPr/>
        </p:nvSpPr>
        <p:spPr>
          <a:xfrm>
            <a:off x="1600200" y="2895480"/>
            <a:ext cx="59436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溶剂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乙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型溶剂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B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1600200" y="4038480"/>
            <a:ext cx="5943600" cy="94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功能性电解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高电压型、低温型、高温型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403280" y="95868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关键技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HGPｺﾞｼｯｸM"/>
              </a:rPr>
              <a:t>2.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高电导率电解液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0e1e"/>
                </a:solidFill>
                <a:latin typeface="黑体"/>
                <a:ea typeface="黑体"/>
              </a:rPr>
              <a:t>超级电容器关键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41000" y="915840"/>
            <a:ext cx="711828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0e1e"/>
                </a:solidFill>
                <a:latin typeface="黑体"/>
                <a:ea typeface="黑体"/>
              </a:rPr>
              <a:t>我国车用超级电容器的主要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9200" y="1722600"/>
            <a:ext cx="742140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当前美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axwel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产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引进其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国内生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占据主要市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产的车用超级电容器要努力与国外产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比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971640" y="3917880"/>
            <a:ext cx="74293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电容炭主要依赖进口，炭价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产品起步，要增加产量，加强竞争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449568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我国车用超级电容器的主要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143000" y="22860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挥发性强，易燃烧，毒性较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143000" y="335268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混合电动车试用超级电容器中出现过燃烧等安全事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本已禁止乙腈体系超级电容器用于电动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867280" y="2300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  <a:ea typeface="黑体"/>
              </a:rPr>
              <a:t>安全和环保隐患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143000" y="2819520"/>
            <a:ext cx="653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符合发展新能源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绿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理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62120" y="76212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车用超级电容器电解液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溶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乙腈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电导率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8 mS/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沸点很低（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82 ºC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1523880"/>
            <a:ext cx="853416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超级电容器技术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2273400"/>
            <a:ext cx="8534160" cy="62208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超级电容器在电动汽车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3035160"/>
            <a:ext cx="8534160" cy="6224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超级电容器在规模储能中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797280"/>
            <a:ext cx="8534160" cy="5461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超级电容器的技术发展动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495680"/>
            <a:ext cx="85341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1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7653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、超级电容器在电动汽车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80880" y="160020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混合动力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汽车启停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燃料电池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城市轨道交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纯电动汽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3200400" y="1600200"/>
            <a:ext cx="579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Arial"/>
                <a:ea typeface="黑体"/>
              </a:rPr>
              <a:t>与其他能量部件（发动机、蓄电池、燃料电池）并联工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提供车辆启动需求的高功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承受制动能量全回馈的高功率冲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承受大电流快速充电的高功率冲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371600" y="4038480"/>
            <a:ext cx="7010280" cy="19051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果是</a:t>
            </a:r>
            <a:r>
              <a:rPr b="1" lang="zh-CN" sz="2800" spc="-1" strike="noStrike">
                <a:solidFill>
                  <a:srgbClr val="0e18a0"/>
                </a:solidFill>
                <a:latin typeface="黑体"/>
                <a:ea typeface="黑体"/>
              </a:rPr>
              <a:t>内燃机</a:t>
            </a:r>
            <a:r>
              <a:rPr b="1" lang="en-US" sz="2800" spc="-1" strike="noStrike">
                <a:solidFill>
                  <a:srgbClr val="0e18a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减小其设计功率，减轻重量，节省油料，降低污染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燃料电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应路况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种蓄电池</a:t>
            </a:r>
            <a:r>
              <a:rPr b="1" lang="en-US" sz="2800" spc="-1" strike="noStrike">
                <a:solidFill>
                  <a:srgbClr val="0e18a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延长电池寿命，节省电能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687240" y="4365720"/>
            <a:ext cx="64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效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9"/>
          <p:cNvSpPr/>
          <p:nvPr/>
        </p:nvSpPr>
        <p:spPr>
          <a:xfrm>
            <a:off x="609480" y="33336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2228b"/>
                </a:solidFill>
                <a:latin typeface="黑体"/>
                <a:ea typeface="黑体"/>
              </a:rPr>
              <a:t>国内新能源汽车应用超级电容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533520" y="920880"/>
            <a:ext cx="8076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十城千辆”节能与新能源汽车示范工程以混合动力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38120" y="2000160"/>
          <a:ext cx="8381880" cy="2743200"/>
        </p:xfrm>
        <a:graphic>
          <a:graphicData uri="http://schemas.openxmlformats.org/drawingml/2006/table">
            <a:tbl>
              <a:tblPr/>
              <a:tblGrid>
                <a:gridCol w="2971800"/>
                <a:gridCol w="838080"/>
                <a:gridCol w="4572000"/>
              </a:tblGrid>
              <a:tr h="6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能源构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主要采用厂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超级电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6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南车时代、宇通客车、海格客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超级电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锂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金旅客车、中通客车、大金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油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+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锂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北汽福田、五洲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锂电池纯电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亚迪、众泰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矩形 2"/>
          <p:cNvSpPr/>
          <p:nvPr/>
        </p:nvSpPr>
        <p:spPr>
          <a:xfrm>
            <a:off x="838080" y="47372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(</a:t>
            </a:r>
            <a:r>
              <a:rPr b="1" lang="zh-CN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深圳市今朝时代公司</a:t>
            </a:r>
            <a:r>
              <a:rPr b="1" lang="en-US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2012</a:t>
            </a:r>
            <a:r>
              <a:rPr b="1" lang="zh-CN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年提供</a:t>
            </a:r>
            <a:r>
              <a:rPr b="1" lang="en-US" sz="2400" spc="-1" strike="noStrike">
                <a:solidFill>
                  <a:srgbClr val="000066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228600" y="1454040"/>
            <a:ext cx="8686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南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生产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辆超级电容器混合动力客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457200" y="524016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/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机体系超级电容器，是回收刹车能量的首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适合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在混合电动车使用，节油率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5%-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219320" y="1311120"/>
            <a:ext cx="7162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以铅酸电池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电容器为电源（北京科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676520" y="549360"/>
            <a:ext cx="5943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黑体"/>
              </a:rPr>
              <a:t>增程式电动公交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科凌电动车北京-扬州行到达2"/>
          <p:cNvPicPr/>
          <p:nvPr/>
        </p:nvPicPr>
        <p:blipFill>
          <a:blip r:embed="rId1"/>
          <a:stretch/>
        </p:blipFill>
        <p:spPr>
          <a:xfrm>
            <a:off x="762120" y="1800360"/>
            <a:ext cx="5130720" cy="2862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5816520" y="1965240"/>
            <a:ext cx="312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北京开到扬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两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公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中途充电一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943600" y="356544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百公里油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均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km/h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1219320" y="4941720"/>
            <a:ext cx="7162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以镍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炭混合电容器为电源（青年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巨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258920" y="5589720"/>
            <a:ext cx="7162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（还有以锂离子电池为电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5791320" y="1295280"/>
            <a:ext cx="3124080" cy="94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只有电动机驱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故属纯电驱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791320" y="2362320"/>
            <a:ext cx="3124080" cy="1676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行驶前电池组充电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途中小功率发电机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在最佳工况下发电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节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80880" y="411480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电机与电源组并联驱动电动机  也给电源充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95280" y="48769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公里内不用油；长途仍需用油 但可省油一半以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04920" y="1295280"/>
            <a:ext cx="5410080" cy="2871720"/>
            <a:chOff x="304920" y="1295280"/>
            <a:chExt cx="5410080" cy="2871720"/>
          </a:xfrm>
        </p:grpSpPr>
        <p:sp>
          <p:nvSpPr>
            <p:cNvPr id="147" name="AutoShape 2"/>
            <p:cNvSpPr/>
            <p:nvPr/>
          </p:nvSpPr>
          <p:spPr>
            <a:xfrm>
              <a:off x="304920" y="1736640"/>
              <a:ext cx="5410080" cy="1947960"/>
            </a:xfrm>
            <a:prstGeom prst="roundRect">
              <a:avLst>
                <a:gd name="adj" fmla="val 16667"/>
              </a:avLst>
            </a:prstGeom>
            <a:solidFill>
              <a:srgbClr val="d1d1f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"/>
            <p:cNvSpPr/>
            <p:nvPr/>
          </p:nvSpPr>
          <p:spPr>
            <a:xfrm>
              <a:off x="974880" y="2938320"/>
              <a:ext cx="1440" cy="828720"/>
            </a:xfrm>
            <a:prstGeom prst="line">
              <a:avLst/>
            </a:prstGeom>
            <a:ln w="190440">
              <a:solidFill>
                <a:srgbClr val="1919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"/>
            <p:cNvSpPr/>
            <p:nvPr/>
          </p:nvSpPr>
          <p:spPr>
            <a:xfrm flipH="1">
              <a:off x="974880" y="1530360"/>
              <a:ext cx="10800" cy="974880"/>
            </a:xfrm>
            <a:prstGeom prst="line">
              <a:avLst/>
            </a:prstGeom>
            <a:ln w="190440">
              <a:solidFill>
                <a:srgbClr val="1919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2"/>
            <p:cNvSpPr/>
            <p:nvPr/>
          </p:nvSpPr>
          <p:spPr>
            <a:xfrm>
              <a:off x="949320" y="1695600"/>
              <a:ext cx="58680" cy="77760"/>
            </a:xfrm>
            <a:prstGeom prst="upArrow">
              <a:avLst>
                <a:gd name="adj1" fmla="val 40602"/>
                <a:gd name="adj2" fmla="val 52619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3"/>
            <p:cNvSpPr/>
            <p:nvPr/>
          </p:nvSpPr>
          <p:spPr>
            <a:xfrm>
              <a:off x="949320" y="1820880"/>
              <a:ext cx="58680" cy="77760"/>
            </a:xfrm>
            <a:prstGeom prst="upArrow">
              <a:avLst>
                <a:gd name="adj1" fmla="val 40602"/>
                <a:gd name="adj2" fmla="val 52619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4"/>
            <p:cNvSpPr/>
            <p:nvPr/>
          </p:nvSpPr>
          <p:spPr>
            <a:xfrm>
              <a:off x="949320" y="1944720"/>
              <a:ext cx="58680" cy="77760"/>
            </a:xfrm>
            <a:prstGeom prst="upArrow">
              <a:avLst>
                <a:gd name="adj1" fmla="val 40602"/>
                <a:gd name="adj2" fmla="val 52619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5"/>
            <p:cNvSpPr/>
            <p:nvPr/>
          </p:nvSpPr>
          <p:spPr>
            <a:xfrm>
              <a:off x="949320" y="2068560"/>
              <a:ext cx="58680" cy="77760"/>
            </a:xfrm>
            <a:prstGeom prst="upArrow">
              <a:avLst>
                <a:gd name="adj1" fmla="val 40602"/>
                <a:gd name="adj2" fmla="val 52619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6"/>
            <p:cNvSpPr/>
            <p:nvPr/>
          </p:nvSpPr>
          <p:spPr>
            <a:xfrm>
              <a:off x="949320" y="2192400"/>
              <a:ext cx="58680" cy="75960"/>
            </a:xfrm>
            <a:prstGeom prst="upArrow">
              <a:avLst>
                <a:gd name="adj1" fmla="val 40602"/>
                <a:gd name="adj2" fmla="val 51401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8"/>
            <p:cNvSpPr/>
            <p:nvPr/>
          </p:nvSpPr>
          <p:spPr>
            <a:xfrm flipV="1">
              <a:off x="949320" y="3628440"/>
              <a:ext cx="58680" cy="75960"/>
            </a:xfrm>
            <a:prstGeom prst="upArrow">
              <a:avLst>
                <a:gd name="adj1" fmla="val 40602"/>
                <a:gd name="adj2" fmla="val 51401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 rot="10800000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9"/>
            <p:cNvSpPr/>
            <p:nvPr/>
          </p:nvSpPr>
          <p:spPr>
            <a:xfrm flipV="1">
              <a:off x="949320" y="3503520"/>
              <a:ext cx="58680" cy="76320"/>
            </a:xfrm>
            <a:prstGeom prst="upArrow">
              <a:avLst>
                <a:gd name="adj1" fmla="val 40602"/>
                <a:gd name="adj2" fmla="val 51645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 rot="10800000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0"/>
            <p:cNvSpPr/>
            <p:nvPr/>
          </p:nvSpPr>
          <p:spPr>
            <a:xfrm flipV="1">
              <a:off x="949320" y="3379680"/>
              <a:ext cx="58680" cy="77760"/>
            </a:xfrm>
            <a:prstGeom prst="upArrow">
              <a:avLst>
                <a:gd name="adj1" fmla="val 40602"/>
                <a:gd name="adj2" fmla="val 52619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 rot="10800000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21"/>
            <p:cNvSpPr/>
            <p:nvPr/>
          </p:nvSpPr>
          <p:spPr>
            <a:xfrm flipV="1">
              <a:off x="949320" y="3254400"/>
              <a:ext cx="58680" cy="77760"/>
            </a:xfrm>
            <a:prstGeom prst="upArrow">
              <a:avLst>
                <a:gd name="adj1" fmla="val 40602"/>
                <a:gd name="adj2" fmla="val 52619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 rot="10800000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2"/>
            <p:cNvSpPr/>
            <p:nvPr/>
          </p:nvSpPr>
          <p:spPr>
            <a:xfrm flipV="1">
              <a:off x="949320" y="3130560"/>
              <a:ext cx="58680" cy="77760"/>
            </a:xfrm>
            <a:prstGeom prst="upArrow">
              <a:avLst>
                <a:gd name="adj1" fmla="val 40602"/>
                <a:gd name="adj2" fmla="val 52619"/>
              </a:avLst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 rot="10800000">
              <a:no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3"/>
            <p:cNvSpPr/>
            <p:nvPr/>
          </p:nvSpPr>
          <p:spPr>
            <a:xfrm>
              <a:off x="3429000" y="2805120"/>
              <a:ext cx="1717560" cy="3049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电源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5"/>
            <p:cNvSpPr/>
            <p:nvPr/>
          </p:nvSpPr>
          <p:spPr>
            <a:xfrm>
              <a:off x="343080" y="1965240"/>
              <a:ext cx="180720" cy="20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6"/>
            <p:cNvSpPr/>
            <p:nvPr/>
          </p:nvSpPr>
          <p:spPr>
            <a:xfrm>
              <a:off x="343080" y="3247920"/>
              <a:ext cx="180720" cy="20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8"/>
            <p:cNvSpPr/>
            <p:nvPr/>
          </p:nvSpPr>
          <p:spPr>
            <a:xfrm>
              <a:off x="4492800" y="1447920"/>
              <a:ext cx="898200" cy="2314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59"/>
            <p:cNvSpPr/>
            <p:nvPr/>
          </p:nvSpPr>
          <p:spPr>
            <a:xfrm>
              <a:off x="4495680" y="3736800"/>
              <a:ext cx="897120" cy="233640"/>
            </a:xfrm>
            <a:prstGeom prst="flowChartAlternate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60"/>
            <p:cNvSpPr/>
            <p:nvPr/>
          </p:nvSpPr>
          <p:spPr>
            <a:xfrm>
              <a:off x="523800" y="1447920"/>
              <a:ext cx="898560" cy="231480"/>
            </a:xfrm>
            <a:prstGeom prst="flowChartAlternateProcess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1"/>
            <p:cNvSpPr/>
            <p:nvPr/>
          </p:nvSpPr>
          <p:spPr>
            <a:xfrm>
              <a:off x="523800" y="3736800"/>
              <a:ext cx="897120" cy="233640"/>
            </a:xfrm>
            <a:prstGeom prst="flowChartAlternateProcess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50"/>
            <p:cNvSpPr/>
            <p:nvPr/>
          </p:nvSpPr>
          <p:spPr>
            <a:xfrm flipH="1">
              <a:off x="2514600" y="2938320"/>
              <a:ext cx="91440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Straight Arrow Connector 92"/>
            <p:cNvCxnSpPr/>
            <p:nvPr/>
          </p:nvCxnSpPr>
          <p:spPr>
            <a:xfrm>
              <a:off x="3855600" y="3106440"/>
              <a:ext cx="1080" cy="308520"/>
            </a:xfrm>
            <a:prstGeom prst="straightConnector1">
              <a:avLst/>
            </a:prstGeom>
            <a:ln w="76320">
              <a:solidFill>
                <a:srgbClr val="c00000"/>
              </a:solidFill>
              <a:miter/>
              <a:headEnd len="med" type="triangle" w="med"/>
            </a:ln>
          </p:spPr>
        </p:cxnSp>
        <p:sp>
          <p:nvSpPr>
            <p:cNvPr id="169" name="Text Box 23"/>
            <p:cNvSpPr/>
            <p:nvPr/>
          </p:nvSpPr>
          <p:spPr>
            <a:xfrm>
              <a:off x="1905120" y="2789280"/>
              <a:ext cx="623880" cy="3315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电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0" name="Straight Arrow Connector 90"/>
            <p:cNvCxnSpPr/>
            <p:nvPr/>
          </p:nvCxnSpPr>
          <p:spPr>
            <a:xfrm flipH="1">
              <a:off x="1294920" y="2971440"/>
              <a:ext cx="610560" cy="1080"/>
            </a:xfrm>
            <a:prstGeom prst="straightConnector1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171" name="Text Box 23"/>
            <p:cNvSpPr/>
            <p:nvPr/>
          </p:nvSpPr>
          <p:spPr>
            <a:xfrm>
              <a:off x="838080" y="2208240"/>
              <a:ext cx="487440" cy="1166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3429000" y="3424320"/>
              <a:ext cx="871560" cy="4111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充电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0"/>
            <p:cNvSpPr/>
            <p:nvPr/>
          </p:nvSpPr>
          <p:spPr>
            <a:xfrm>
              <a:off x="3429000" y="3835440"/>
              <a:ext cx="871560" cy="33156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t">
              <a:spAutoFit/>
            </a:bodyPr>
            <a:p>
              <a:pPr algn="ctr"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220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34"/>
            <p:cNvSpPr/>
            <p:nvPr/>
          </p:nvSpPr>
          <p:spPr>
            <a:xfrm>
              <a:off x="3022560" y="191916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纯电动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7"/>
            <p:cNvSpPr/>
            <p:nvPr/>
          </p:nvSpPr>
          <p:spPr>
            <a:xfrm>
              <a:off x="2514600" y="1806480"/>
              <a:ext cx="2514600" cy="8557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1"/>
            <p:cNvSpPr/>
            <p:nvPr/>
          </p:nvSpPr>
          <p:spPr>
            <a:xfrm>
              <a:off x="2597040" y="2365200"/>
              <a:ext cx="1086120" cy="24624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发电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49"/>
            <p:cNvSpPr/>
            <p:nvPr/>
          </p:nvSpPr>
          <p:spPr>
            <a:xfrm>
              <a:off x="4343400" y="1830240"/>
              <a:ext cx="609480" cy="54468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油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50"/>
            <p:cNvSpPr/>
            <p:nvPr/>
          </p:nvSpPr>
          <p:spPr>
            <a:xfrm flipH="1">
              <a:off x="3657240" y="1981080"/>
              <a:ext cx="685800" cy="0"/>
            </a:xfrm>
            <a:prstGeom prst="line">
              <a:avLst/>
            </a:prstGeom>
            <a:ln w="76320">
              <a:solidFill>
                <a:srgbClr val="00997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Straight Arrow Connector 85"/>
            <p:cNvCxnSpPr/>
            <p:nvPr/>
          </p:nvCxnSpPr>
          <p:spPr>
            <a:xfrm flipH="1">
              <a:off x="3017160" y="1962000"/>
              <a:ext cx="11880" cy="402480"/>
            </a:xfrm>
            <a:prstGeom prst="straightConnector1">
              <a:avLst/>
            </a:prstGeom>
            <a:ln w="76320">
              <a:solidFill>
                <a:srgbClr val="009973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0" name="Straight Arrow Connector 90"/>
            <p:cNvCxnSpPr/>
            <p:nvPr/>
          </p:nvCxnSpPr>
          <p:spPr>
            <a:xfrm flipH="1">
              <a:off x="3006360" y="2600280"/>
              <a:ext cx="2160" cy="295560"/>
            </a:xfrm>
            <a:prstGeom prst="straightConnector1">
              <a:avLst/>
            </a:prstGeom>
            <a:ln w="76320">
              <a:solidFill>
                <a:srgbClr val="c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81" name="Rectangle 45"/>
            <p:cNvSpPr/>
            <p:nvPr/>
          </p:nvSpPr>
          <p:spPr>
            <a:xfrm>
              <a:off x="2590920" y="1839960"/>
              <a:ext cx="1093680" cy="290160"/>
            </a:xfrm>
            <a:prstGeom prst="rect">
              <a:avLst/>
            </a:pr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8440" bIns="2844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46280"/>
                  <a:tab algn="l" pos="1492200"/>
                  <a:tab algn="l" pos="2238480"/>
                  <a:tab algn="l" pos="2984400"/>
                  <a:tab algn="l" pos="3730680"/>
                  <a:tab algn="l" pos="4476600"/>
                  <a:tab algn="l" pos="5222880"/>
                  <a:tab algn="l" pos="5969160"/>
                  <a:tab algn="l" pos="6715080"/>
                  <a:tab algn="l" pos="7461360"/>
                  <a:tab algn="l" pos="8207280"/>
                  <a:tab algn="l" pos="8953560"/>
                  <a:tab algn="l" pos="9699480"/>
                  <a:tab algn="l" pos="1044576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内燃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44"/>
            <p:cNvSpPr/>
            <p:nvPr/>
          </p:nvSpPr>
          <p:spPr>
            <a:xfrm>
              <a:off x="1447920" y="1295280"/>
              <a:ext cx="2971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纯电动汽车增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45"/>
          <p:cNvSpPr/>
          <p:nvPr/>
        </p:nvSpPr>
        <p:spPr>
          <a:xfrm>
            <a:off x="395280" y="44956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功率电池或储能电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电容  提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\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收电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6858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增程式电动汽车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(EREV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7"/>
          <p:cNvSpPr/>
          <p:nvPr/>
        </p:nvSpPr>
        <p:spPr>
          <a:xfrm>
            <a:off x="304920" y="5410080"/>
            <a:ext cx="85341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科技部</a:t>
            </a:r>
            <a:r>
              <a:rPr b="1" lang="en-US" sz="3200" spc="-1" strike="noStrike">
                <a:solidFill>
                  <a:srgbClr val="000066"/>
                </a:solidFill>
                <a:latin typeface="黑体"/>
                <a:ea typeface="黑体"/>
              </a:rPr>
              <a:t>863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计划支持</a:t>
            </a:r>
            <a:r>
              <a:rPr b="1" lang="zh-CN" sz="32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增程式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电动轿车和客车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57200" y="762120"/>
            <a:ext cx="6094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增程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十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1143000" y="609480"/>
            <a:ext cx="76849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必配太大容量动力电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且可远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电池组不会缺电和过放电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寿命延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一定用锂离子电池而用别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价格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54160" y="1871640"/>
            <a:ext cx="768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夜间在停车场充电不另建充电站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省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夜间充电是使用电网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谷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143000" y="2757600"/>
            <a:ext cx="7684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不需要充电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换电的周转电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投入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需要大量的换电设施和人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行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43000" y="3595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传统汽车设施和成就全继承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且易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现有技术就可节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节能减排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990720" y="44481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政府补贴负担轻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较容易过渡到无补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609480" y="4952880"/>
            <a:ext cx="792504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5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万辆公交车、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12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万辆出租车   换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9"/>
          <p:cNvSpPr/>
          <p:nvPr/>
        </p:nvSpPr>
        <p:spPr>
          <a:xfrm>
            <a:off x="609480" y="5562720"/>
            <a:ext cx="792504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年产千万余辆中高档乘用车   最佳车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4"/>
          <p:cNvSpPr/>
          <p:nvPr/>
        </p:nvSpPr>
        <p:spPr>
          <a:xfrm>
            <a:off x="900000" y="531720"/>
            <a:ext cx="7275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商品化的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超级电容器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主要是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双电层电容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黑体"/>
                <a:ea typeface="黑体"/>
              </a:rPr>
              <a:t>用多孔电极材料与电解液之间界面双电层的原理来储存电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1523880" y="1866960"/>
            <a:ext cx="6477120" cy="6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三部分组成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电极材料、隔膜、电解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38080" y="2556000"/>
            <a:ext cx="3810240" cy="36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优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长寿命，百万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快充快放，高功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原理和结构简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材料易得、较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电压指示电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良好的低温性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724280" y="2679840"/>
            <a:ext cx="3986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缺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重量、体积比能量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工作电压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溶液电解质 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机电解质  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7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523880"/>
            <a:ext cx="853416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超级电容器技术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273400"/>
            <a:ext cx="8534160" cy="62208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超级电容器在电动汽车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3035160"/>
            <a:ext cx="8534160" cy="6224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超级电容器在规模储能中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797280"/>
            <a:ext cx="8534160" cy="5461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超级电容器的技术发展动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4495680"/>
            <a:ext cx="85341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1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861480"/>
            <a:ext cx="8229600" cy="8384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、 超级电容器在规模储能中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168560" y="3500280"/>
            <a:ext cx="736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比能量，限制了它在规模蓄电中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211400" y="1989000"/>
            <a:ext cx="768168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用于：电网的调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瞬时电压波动的平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风力发电机的浆距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3880"/>
            <a:ext cx="853416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超级电容器技术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2273400"/>
            <a:ext cx="8534160" cy="62208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超级电容器在电动汽车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035160"/>
            <a:ext cx="8534160" cy="6224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超级电容器在规模储能中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797280"/>
            <a:ext cx="8534160" cy="5461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超级电容器的技术发展动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495680"/>
            <a:ext cx="85341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1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3"/>
          <p:cNvSpPr/>
          <p:nvPr/>
        </p:nvSpPr>
        <p:spPr>
          <a:xfrm>
            <a:off x="1219320" y="162864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提高电极的比电容</a:t>
            </a: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--</a:t>
            </a: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新型高比容量碳材料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5800" y="304920"/>
            <a:ext cx="7924680" cy="7016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四、超级电容器的技术发展动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5800" y="1109520"/>
            <a:ext cx="304812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提高比能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676520" y="1995480"/>
            <a:ext cx="66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石墨烯可作电极添加剂； 主材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7245360" y="5410080"/>
            <a:ext cx="1441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BP-B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231920" y="2590920"/>
            <a:ext cx="76834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提高电解液的分解电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小电解质离子半径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→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3.0V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，比能量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↑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  <a:ea typeface="黑体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6559560" y="3649680"/>
            <a:ext cx="110340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9"/>
          <p:cNvGrpSpPr/>
          <p:nvPr/>
        </p:nvGrpSpPr>
        <p:grpSpPr>
          <a:xfrm>
            <a:off x="6854760" y="3792600"/>
            <a:ext cx="1677960" cy="1368000"/>
            <a:chOff x="6854760" y="3792600"/>
            <a:chExt cx="1677960" cy="1368000"/>
          </a:xfrm>
        </p:grpSpPr>
        <p:sp>
          <p:nvSpPr>
            <p:cNvPr id="217" name="Oval 10"/>
            <p:cNvSpPr/>
            <p:nvPr/>
          </p:nvSpPr>
          <p:spPr>
            <a:xfrm>
              <a:off x="7380360" y="4414680"/>
              <a:ext cx="268200" cy="16992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7434000" y="4494240"/>
              <a:ext cx="1429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7505640" y="4448160"/>
              <a:ext cx="144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3"/>
            <p:cNvGrpSpPr/>
            <p:nvPr/>
          </p:nvGrpSpPr>
          <p:grpSpPr>
            <a:xfrm>
              <a:off x="7887960" y="4289400"/>
              <a:ext cx="644760" cy="439560"/>
              <a:chOff x="7887960" y="4289400"/>
              <a:chExt cx="644760" cy="439560"/>
            </a:xfrm>
          </p:grpSpPr>
          <p:sp>
            <p:nvSpPr>
              <p:cNvPr id="221" name="Rectangle 14"/>
              <p:cNvSpPr/>
              <p:nvPr/>
            </p:nvSpPr>
            <p:spPr>
              <a:xfrm>
                <a:off x="7887960" y="43383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5"/>
              <p:cNvSpPr/>
              <p:nvPr/>
            </p:nvSpPr>
            <p:spPr>
              <a:xfrm>
                <a:off x="8097480" y="4338360"/>
                <a:ext cx="148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16"/>
              <p:cNvSpPr/>
              <p:nvPr/>
            </p:nvSpPr>
            <p:spPr>
              <a:xfrm>
                <a:off x="8192880" y="450036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7"/>
              <p:cNvSpPr/>
              <p:nvPr/>
            </p:nvSpPr>
            <p:spPr>
              <a:xfrm>
                <a:off x="8264520" y="4289400"/>
                <a:ext cx="268200" cy="171360"/>
              </a:xfrm>
              <a:prstGeom prst="ellipse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8318520" y="4368600"/>
                <a:ext cx="14292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9"/>
            <p:cNvGrpSpPr/>
            <p:nvPr/>
          </p:nvGrpSpPr>
          <p:grpSpPr>
            <a:xfrm>
              <a:off x="6854760" y="3792600"/>
              <a:ext cx="596880" cy="1368000"/>
              <a:chOff x="6854760" y="3792600"/>
              <a:chExt cx="596880" cy="1368000"/>
            </a:xfrm>
          </p:grpSpPr>
          <p:sp>
            <p:nvSpPr>
              <p:cNvPr id="227" name="Line 20"/>
              <p:cNvSpPr/>
              <p:nvPr/>
            </p:nvSpPr>
            <p:spPr>
              <a:xfrm flipV="1">
                <a:off x="7213680" y="4152600"/>
                <a:ext cx="7308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1"/>
              <p:cNvSpPr/>
              <p:nvPr/>
            </p:nvSpPr>
            <p:spPr>
              <a:xfrm flipH="1" flipV="1">
                <a:off x="7142040" y="3792600"/>
                <a:ext cx="144720" cy="36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2"/>
              <p:cNvSpPr/>
              <p:nvPr/>
            </p:nvSpPr>
            <p:spPr>
              <a:xfrm flipH="1">
                <a:off x="6997320" y="3792600"/>
                <a:ext cx="14436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23"/>
              <p:cNvSpPr/>
              <p:nvPr/>
            </p:nvSpPr>
            <p:spPr>
              <a:xfrm flipH="1">
                <a:off x="6926400" y="3865320"/>
                <a:ext cx="71280" cy="35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24"/>
              <p:cNvSpPr/>
              <p:nvPr/>
            </p:nvSpPr>
            <p:spPr>
              <a:xfrm flipH="1">
                <a:off x="6854760" y="4657680"/>
                <a:ext cx="10656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>
                <a:off x="6854760" y="4800600"/>
                <a:ext cx="71640" cy="28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>
                <a:off x="6926400" y="5089320"/>
                <a:ext cx="36036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V="1">
                <a:off x="7286760" y="4873320"/>
                <a:ext cx="16488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28"/>
              <p:cNvGrpSpPr/>
              <p:nvPr/>
            </p:nvGrpSpPr>
            <p:grpSpPr>
              <a:xfrm>
                <a:off x="6926400" y="4368600"/>
                <a:ext cx="360360" cy="360000"/>
                <a:chOff x="6926400" y="4368600"/>
                <a:chExt cx="360360" cy="360000"/>
              </a:xfrm>
            </p:grpSpPr>
            <p:sp>
              <p:nvSpPr>
                <p:cNvPr id="236" name="Oval 29"/>
                <p:cNvSpPr/>
                <p:nvPr/>
              </p:nvSpPr>
              <p:spPr>
                <a:xfrm>
                  <a:off x="6926400" y="4368600"/>
                  <a:ext cx="360360" cy="36000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30"/>
                <p:cNvSpPr/>
                <p:nvPr/>
              </p:nvSpPr>
              <p:spPr>
                <a:xfrm>
                  <a:off x="7011000" y="4390560"/>
                  <a:ext cx="195840" cy="289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0066ff"/>
                      </a:solidFill>
                      <a:latin typeface="바탕"/>
                      <a:ea typeface="바탕"/>
                    </a:rPr>
                    <a:t>N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Line 31"/>
              <p:cNvSpPr/>
              <p:nvPr/>
            </p:nvSpPr>
            <p:spPr>
              <a:xfrm>
                <a:off x="6926400" y="4224240"/>
                <a:ext cx="99720" cy="25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 flipH="1" flipV="1">
                <a:off x="7215120" y="4584240"/>
                <a:ext cx="216000" cy="28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Group 33"/>
          <p:cNvGrpSpPr/>
          <p:nvPr/>
        </p:nvGrpSpPr>
        <p:grpSpPr>
          <a:xfrm>
            <a:off x="1402920" y="3863520"/>
            <a:ext cx="2109960" cy="1297440"/>
            <a:chOff x="1402920" y="3863520"/>
            <a:chExt cx="2109960" cy="1297440"/>
          </a:xfrm>
        </p:grpSpPr>
        <p:sp>
          <p:nvSpPr>
            <p:cNvPr id="241" name="Oval 34"/>
            <p:cNvSpPr/>
            <p:nvPr/>
          </p:nvSpPr>
          <p:spPr>
            <a:xfrm>
              <a:off x="2360520" y="4415040"/>
              <a:ext cx="268560" cy="16956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5"/>
            <p:cNvSpPr/>
            <p:nvPr/>
          </p:nvSpPr>
          <p:spPr>
            <a:xfrm>
              <a:off x="2414520" y="4494240"/>
              <a:ext cx="1429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>
              <a:off x="2486160" y="4448160"/>
              <a:ext cx="1440" cy="92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7"/>
            <p:cNvGrpSpPr/>
            <p:nvPr/>
          </p:nvGrpSpPr>
          <p:grpSpPr>
            <a:xfrm>
              <a:off x="2868120" y="4289400"/>
              <a:ext cx="644760" cy="439560"/>
              <a:chOff x="2868120" y="4289400"/>
              <a:chExt cx="644760" cy="439560"/>
            </a:xfrm>
          </p:grpSpPr>
          <p:sp>
            <p:nvSpPr>
              <p:cNvPr id="245" name="Rectangle 38"/>
              <p:cNvSpPr/>
              <p:nvPr/>
            </p:nvSpPr>
            <p:spPr>
              <a:xfrm>
                <a:off x="2868120" y="43383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39"/>
              <p:cNvSpPr/>
              <p:nvPr/>
            </p:nvSpPr>
            <p:spPr>
              <a:xfrm>
                <a:off x="3077640" y="4338360"/>
                <a:ext cx="148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40"/>
              <p:cNvSpPr/>
              <p:nvPr/>
            </p:nvSpPr>
            <p:spPr>
              <a:xfrm>
                <a:off x="3173040" y="450036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1"/>
              <p:cNvSpPr/>
              <p:nvPr/>
            </p:nvSpPr>
            <p:spPr>
              <a:xfrm>
                <a:off x="3244680" y="4289400"/>
                <a:ext cx="268200" cy="171360"/>
              </a:xfrm>
              <a:prstGeom prst="ellipse">
                <a:avLst/>
              </a:prstGeom>
              <a:noFill/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42"/>
              <p:cNvSpPr/>
              <p:nvPr/>
            </p:nvSpPr>
            <p:spPr>
              <a:xfrm>
                <a:off x="3298680" y="4368600"/>
                <a:ext cx="14292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43"/>
            <p:cNvGrpSpPr/>
            <p:nvPr/>
          </p:nvGrpSpPr>
          <p:grpSpPr>
            <a:xfrm>
              <a:off x="1402920" y="3863520"/>
              <a:ext cx="1080000" cy="1297440"/>
              <a:chOff x="1402920" y="3863520"/>
              <a:chExt cx="1080000" cy="1297440"/>
            </a:xfrm>
          </p:grpSpPr>
          <p:sp>
            <p:nvSpPr>
              <p:cNvPr id="251" name="Line 44"/>
              <p:cNvSpPr/>
              <p:nvPr/>
            </p:nvSpPr>
            <p:spPr>
              <a:xfrm flipV="1">
                <a:off x="2193840" y="4152960"/>
                <a:ext cx="7308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45"/>
              <p:cNvSpPr/>
              <p:nvPr/>
            </p:nvSpPr>
            <p:spPr>
              <a:xfrm flipV="1">
                <a:off x="2266920" y="3863520"/>
                <a:ext cx="21600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1547640" y="4008600"/>
                <a:ext cx="35892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 flipH="1">
                <a:off x="1834920" y="4657680"/>
                <a:ext cx="106560" cy="142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48"/>
              <p:cNvSpPr/>
              <p:nvPr/>
            </p:nvSpPr>
            <p:spPr>
              <a:xfrm flipH="1" flipV="1">
                <a:off x="1402920" y="4729320"/>
                <a:ext cx="43164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49"/>
              <p:cNvSpPr/>
              <p:nvPr/>
            </p:nvSpPr>
            <p:spPr>
              <a:xfrm flipV="1">
                <a:off x="2266920" y="4873680"/>
                <a:ext cx="16488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Group 50"/>
              <p:cNvGrpSpPr/>
              <p:nvPr/>
            </p:nvGrpSpPr>
            <p:grpSpPr>
              <a:xfrm>
                <a:off x="1906560" y="4368960"/>
                <a:ext cx="360360" cy="360360"/>
                <a:chOff x="1906560" y="4368960"/>
                <a:chExt cx="360360" cy="360360"/>
              </a:xfrm>
            </p:grpSpPr>
            <p:sp>
              <p:nvSpPr>
                <p:cNvPr id="258" name="Oval 51"/>
                <p:cNvSpPr/>
                <p:nvPr/>
              </p:nvSpPr>
              <p:spPr>
                <a:xfrm>
                  <a:off x="1906560" y="4368960"/>
                  <a:ext cx="360360" cy="3603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52"/>
                <p:cNvSpPr/>
                <p:nvPr/>
              </p:nvSpPr>
              <p:spPr>
                <a:xfrm>
                  <a:off x="1991160" y="4391280"/>
                  <a:ext cx="195840" cy="2898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900" spc="-1" strike="noStrike">
                      <a:solidFill>
                        <a:srgbClr val="0066ff"/>
                      </a:solidFill>
                      <a:latin typeface="바탕"/>
                      <a:ea typeface="바탕"/>
                    </a:rPr>
                    <a:t>N</a:t>
                  </a:r>
                  <a:endParaRPr b="0" lang="en-US" sz="1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Line 53"/>
              <p:cNvSpPr/>
              <p:nvPr/>
            </p:nvSpPr>
            <p:spPr>
              <a:xfrm>
                <a:off x="1906560" y="4224240"/>
                <a:ext cx="100080" cy="2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4"/>
              <p:cNvSpPr/>
              <p:nvPr/>
            </p:nvSpPr>
            <p:spPr>
              <a:xfrm flipH="1" flipV="1">
                <a:off x="2195280" y="4584240"/>
                <a:ext cx="21600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Text Box 143"/>
          <p:cNvSpPr/>
          <p:nvPr/>
        </p:nvSpPr>
        <p:spPr>
          <a:xfrm>
            <a:off x="1295280" y="5181480"/>
            <a:ext cx="2449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氟硼酸四乙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43"/>
          <p:cNvSpPr/>
          <p:nvPr/>
        </p:nvSpPr>
        <p:spPr>
          <a:xfrm>
            <a:off x="6227640" y="5181480"/>
            <a:ext cx="273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氟硼酸螺环季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57"/>
          <p:cNvSpPr/>
          <p:nvPr/>
        </p:nvSpPr>
        <p:spPr>
          <a:xfrm>
            <a:off x="3708360" y="3429000"/>
            <a:ext cx="2951280" cy="2303640"/>
          </a:xfrm>
          <a:prstGeom prst="rightArrow">
            <a:avLst>
              <a:gd name="adj1" fmla="val 50000"/>
              <a:gd name="adj2" fmla="val 320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乙基两两成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高稳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小体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3"/>
          <p:cNvSpPr/>
          <p:nvPr/>
        </p:nvSpPr>
        <p:spPr>
          <a:xfrm>
            <a:off x="1295280" y="5745240"/>
            <a:ext cx="525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问题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专利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正极的稳定寿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990720" y="2133720"/>
            <a:ext cx="304776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增长寿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1600200" y="2700360"/>
            <a:ext cx="6781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减少炭材料的杂质和水分，调节官能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990720" y="692280"/>
            <a:ext cx="304776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提高比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1523880" y="1266840"/>
            <a:ext cx="7086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铝箔预先涂覆导电炭层，增强活性层与铝箔的电接触，降低电极内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996840" y="4468680"/>
            <a:ext cx="3048120" cy="51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环保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06680" y="4997520"/>
            <a:ext cx="67816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开发高安全性、高性能超级电容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研究无毒的溶剂，替代乙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3311640"/>
            <a:ext cx="8001000" cy="9471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长寿命和高功率是双电层超级电容器的两大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不宜片面追求高比能量而牺牲他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900000" y="1125360"/>
            <a:ext cx="74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外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电池与超级电容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并联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900000" y="3692520"/>
            <a:ext cx="80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内并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电池与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超级电容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互融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200240" y="458964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电池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增加电容器功能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提高比功率和寿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1200240" y="415764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超级电容器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融合电池材料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比能量有所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447920" y="2757600"/>
            <a:ext cx="670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并联电源的比功率和寿命   比电池提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1450800" y="3138480"/>
            <a:ext cx="73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电路复杂、体积庞大、价格昂贵、使用不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8"/>
          <p:cNvGrpSpPr/>
          <p:nvPr/>
        </p:nvGrpSpPr>
        <p:grpSpPr>
          <a:xfrm>
            <a:off x="1763640" y="1630440"/>
            <a:ext cx="6629040" cy="1066320"/>
            <a:chOff x="1763640" y="1630440"/>
            <a:chExt cx="6629040" cy="1066320"/>
          </a:xfrm>
        </p:grpSpPr>
        <p:sp>
          <p:nvSpPr>
            <p:cNvPr id="280" name="Line 9"/>
            <p:cNvSpPr/>
            <p:nvPr/>
          </p:nvSpPr>
          <p:spPr>
            <a:xfrm>
              <a:off x="5893920" y="2412720"/>
              <a:ext cx="66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0"/>
            <p:cNvSpPr/>
            <p:nvPr/>
          </p:nvSpPr>
          <p:spPr>
            <a:xfrm>
              <a:off x="5893920" y="1898640"/>
              <a:ext cx="66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"/>
            <p:cNvSpPr/>
            <p:nvPr/>
          </p:nvSpPr>
          <p:spPr>
            <a:xfrm>
              <a:off x="4139280" y="2198520"/>
              <a:ext cx="1991160" cy="49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6559560" y="1701720"/>
              <a:ext cx="1202040" cy="92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控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3"/>
            <p:cNvSpPr/>
            <p:nvPr/>
          </p:nvSpPr>
          <p:spPr>
            <a:xfrm>
              <a:off x="3664440" y="1914480"/>
              <a:ext cx="54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4"/>
            <p:cNvSpPr/>
            <p:nvPr/>
          </p:nvSpPr>
          <p:spPr>
            <a:xfrm>
              <a:off x="3664440" y="2454120"/>
              <a:ext cx="45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7725600" y="2198520"/>
              <a:ext cx="66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"/>
            <p:cNvSpPr/>
            <p:nvPr/>
          </p:nvSpPr>
          <p:spPr>
            <a:xfrm>
              <a:off x="1763640" y="2198520"/>
              <a:ext cx="1900800" cy="49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充电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"/>
            <p:cNvSpPr/>
            <p:nvPr/>
          </p:nvSpPr>
          <p:spPr>
            <a:xfrm>
              <a:off x="1763640" y="1630440"/>
              <a:ext cx="1900800" cy="49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充电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4139280" y="1630440"/>
              <a:ext cx="1991160" cy="498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电容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280" y="477360"/>
            <a:ext cx="799308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、电容器与电池的“外并”改“内并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74560" y="5103360"/>
            <a:ext cx="655308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优越性：省去并联线路；自动调整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简化管理系统；加快电池充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80520" y="11430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⑴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混合型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电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电容器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混合型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超级电容器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的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活性炭正极中混入锂离子电池电极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80880" y="2057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国外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80880" y="3581280"/>
            <a:ext cx="457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成都有机所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2438280" y="2125800"/>
            <a:ext cx="6477120" cy="3528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黑体"/>
              </a:rPr>
              <a:t>A.D.Pasquier  et.al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黑体"/>
              </a:rPr>
              <a:t>J Power Sources136(2004)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685800" y="4038480"/>
            <a:ext cx="6248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正极：活性炭电极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0-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加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黑体"/>
              </a:rPr>
              <a:t>15-30%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LiMn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O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黑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负极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600200" y="5638680"/>
            <a:ext cx="6858000" cy="322560"/>
          </a:xfrm>
          <a:prstGeom prst="rect">
            <a:avLst/>
          </a:prstGeom>
          <a:solidFill>
            <a:srgbClr val="ffff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黑体"/>
              </a:rPr>
              <a:t>Xuebo Hu  et.al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黑体"/>
              </a:rPr>
              <a:t>J PowerSources187(2009)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838080" y="5181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4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恒电流下：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14.47Wh/kg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500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次衰减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&lt;8%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380880" y="251460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正极：活性炭电极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加少部分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LiCoO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负极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532560" y="2590920"/>
            <a:ext cx="2153520" cy="1980720"/>
            <a:chOff x="6532560" y="2590920"/>
            <a:chExt cx="2153520" cy="1980720"/>
          </a:xfrm>
        </p:grpSpPr>
        <p:sp>
          <p:nvSpPr>
            <p:cNvPr id="301" name="AutoShape 12"/>
            <p:cNvSpPr/>
            <p:nvPr/>
          </p:nvSpPr>
          <p:spPr>
            <a:xfrm rot="5400000">
              <a:off x="7422480" y="3308040"/>
              <a:ext cx="1599840" cy="927000"/>
            </a:xfrm>
            <a:prstGeom prst="parallelogram">
              <a:avLst>
                <a:gd name="adj" fmla="val 4314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L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3"/>
            <p:cNvSpPr/>
            <p:nvPr/>
          </p:nvSpPr>
          <p:spPr>
            <a:xfrm flipV="1">
              <a:off x="8243640" y="26665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4"/>
            <p:cNvSpPr/>
            <p:nvPr/>
          </p:nvSpPr>
          <p:spPr>
            <a:xfrm flipV="1">
              <a:off x="7027920" y="2743200"/>
              <a:ext cx="0" cy="53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5"/>
            <p:cNvSpPr/>
            <p:nvPr/>
          </p:nvSpPr>
          <p:spPr>
            <a:xfrm rot="5400000">
              <a:off x="6755400" y="3309120"/>
              <a:ext cx="1599840" cy="925200"/>
            </a:xfrm>
            <a:prstGeom prst="parallelogram">
              <a:avLst>
                <a:gd name="adj" fmla="val 432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6"/>
            <p:cNvSpPr/>
            <p:nvPr/>
          </p:nvSpPr>
          <p:spPr>
            <a:xfrm rot="5400000">
              <a:off x="6205680" y="3309120"/>
              <a:ext cx="1599840" cy="924840"/>
            </a:xfrm>
            <a:prstGeom prst="parallelogram">
              <a:avLst>
                <a:gd name="adj" fmla="val 4324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黑体"/>
                </a:rPr>
                <a:t>L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7"/>
            <p:cNvSpPr/>
            <p:nvPr/>
          </p:nvSpPr>
          <p:spPr>
            <a:xfrm>
              <a:off x="6532560" y="2608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"/>
            <p:cNvSpPr/>
            <p:nvPr/>
          </p:nvSpPr>
          <p:spPr>
            <a:xfrm>
              <a:off x="8258040" y="25909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19"/>
          <p:cNvSpPr/>
          <p:nvPr/>
        </p:nvSpPr>
        <p:spPr>
          <a:xfrm>
            <a:off x="6400800" y="15048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活性炭仍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990720" y="380880"/>
            <a:ext cx="761976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5.1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锂离子电池正极中加入活性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04920" y="25909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常州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华日升凯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能源科技有限公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30120" y="3048120"/>
            <a:ext cx="5918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朝阳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立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能源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7720" y="11426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锂离子电池正极中加入活性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活性炭为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57200" y="2057400"/>
            <a:ext cx="6248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正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:LiFeP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  <a:ea typeface="黑体"/>
              </a:rPr>
              <a:t>4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加活性炭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黑体"/>
              </a:rPr>
              <a:t>;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负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石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685800" y="3657600"/>
            <a:ext cx="7010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功率型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8Wh/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243W/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30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次衰减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65.8Wh/kg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84%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20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下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71.2Wh/kg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能量型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17Wh/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40W/k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次容量保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97.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—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20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下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94.2Wh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 flipV="1">
            <a:off x="7272360" y="22158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 flipV="1">
            <a:off x="8255160" y="221616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 rot="5400000">
            <a:off x="7434360" y="2954520"/>
            <a:ext cx="1752480" cy="885600"/>
          </a:xfrm>
          <a:prstGeom prst="parallelogram">
            <a:avLst>
              <a:gd name="adj" fmla="val 4947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1"/>
          <p:cNvSpPr/>
          <p:nvPr/>
        </p:nvSpPr>
        <p:spPr>
          <a:xfrm rot="5400000">
            <a:off x="6895440" y="2961360"/>
            <a:ext cx="1752480" cy="858960"/>
          </a:xfrm>
          <a:prstGeom prst="parallelogram">
            <a:avLst>
              <a:gd name="adj" fmla="val 510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2"/>
          <p:cNvSpPr/>
          <p:nvPr/>
        </p:nvSpPr>
        <p:spPr>
          <a:xfrm rot="5400000">
            <a:off x="6396120" y="2948040"/>
            <a:ext cx="1752480" cy="885600"/>
          </a:xfrm>
          <a:prstGeom prst="parallelogram">
            <a:avLst>
              <a:gd name="adj" fmla="val 4947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L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6783480" y="20574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8275680" y="2133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2050920" y="534960"/>
            <a:ext cx="5329440" cy="51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⑵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电容型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锂离子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6"/>
          <p:cNvSpPr/>
          <p:nvPr/>
        </p:nvSpPr>
        <p:spPr>
          <a:xfrm>
            <a:off x="4201200" y="1654200"/>
            <a:ext cx="7444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高功率、高能量和高安全性磷酸铁锂锂离子动力电容电池 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7"/>
          <p:cNvSpPr/>
          <p:nvPr/>
        </p:nvSpPr>
        <p:spPr>
          <a:xfrm>
            <a:off x="6400800" y="4648320"/>
            <a:ext cx="2362320" cy="947160"/>
          </a:xfrm>
          <a:prstGeom prst="rect">
            <a:avLst/>
          </a:prstGeom>
          <a:solidFill>
            <a:srgbClr val="808080">
              <a:alpha val="20000"/>
            </a:srgbClr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充电速度可能还难与“外并”相抗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0"/>
          <p:cNvSpPr/>
          <p:nvPr/>
        </p:nvSpPr>
        <p:spPr>
          <a:xfrm>
            <a:off x="838080" y="1066680"/>
            <a:ext cx="7620120" cy="609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黑体"/>
              </a:rPr>
              <a:t>⑶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锂离子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黑体"/>
              </a:rPr>
              <a:t>电容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90720" y="1859040"/>
            <a:ext cx="4038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一类混合电容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9"/>
          <p:cNvSpPr/>
          <p:nvPr/>
        </p:nvSpPr>
        <p:spPr>
          <a:xfrm>
            <a:off x="4800600" y="1676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正极全为活性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锂离子在负极嵌、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947960" y="2743200"/>
            <a:ext cx="5672160" cy="762120"/>
            <a:chOff x="1947960" y="2743200"/>
            <a:chExt cx="5672160" cy="762120"/>
          </a:xfrm>
        </p:grpSpPr>
        <p:sp>
          <p:nvSpPr>
            <p:cNvPr id="329" name="Rectangle 15"/>
            <p:cNvSpPr/>
            <p:nvPr/>
          </p:nvSpPr>
          <p:spPr>
            <a:xfrm>
              <a:off x="2438280" y="2743200"/>
              <a:ext cx="5181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负极</a:t>
              </a: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金属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正极</a:t>
              </a: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活性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47960" y="2971800"/>
              <a:ext cx="4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947960" y="3687840"/>
            <a:ext cx="5672160" cy="761760"/>
            <a:chOff x="1947960" y="3687840"/>
            <a:chExt cx="5672160" cy="761760"/>
          </a:xfrm>
        </p:grpSpPr>
        <p:sp>
          <p:nvSpPr>
            <p:cNvPr id="332" name="Rectangle 15"/>
            <p:cNvSpPr/>
            <p:nvPr/>
          </p:nvSpPr>
          <p:spPr>
            <a:xfrm>
              <a:off x="2438280" y="3687840"/>
              <a:ext cx="518184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负极</a:t>
              </a: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石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正极</a:t>
              </a:r>
              <a:r>
                <a:rPr b="1" lang="en-US" sz="3600" spc="-1" strike="noStrike">
                  <a:solidFill>
                    <a:srgbClr val="009900"/>
                  </a:solidFill>
                  <a:latin typeface="Arial"/>
                  <a:ea typeface="黑体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活性炭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47960" y="3916440"/>
              <a:ext cx="414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Rectangle 19"/>
          <p:cNvSpPr/>
          <p:nvPr/>
        </p:nvSpPr>
        <p:spPr>
          <a:xfrm>
            <a:off x="2133720" y="461628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比能量可达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黑体"/>
              </a:rPr>
              <a:t>20-30Wh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比功率主要决定于负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65530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D8ED-3109-468C-8EC9-E6868B878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5867280" y="3351240"/>
            <a:ext cx="31244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铅炭混合电容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有电池和电容的优点、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9"/>
          <p:cNvSpPr/>
          <p:nvPr/>
        </p:nvSpPr>
        <p:spPr>
          <a:xfrm>
            <a:off x="3352680" y="5002200"/>
            <a:ext cx="2590920" cy="101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先进铅酸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黑体"/>
              </a:rPr>
              <a:t>advanced lead-acid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2"/>
          <p:cNvSpPr/>
          <p:nvPr/>
        </p:nvSpPr>
        <p:spPr>
          <a:xfrm>
            <a:off x="1600200" y="1752480"/>
            <a:ext cx="5715000" cy="58140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⑴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先进铅酸电池？（美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灯片编号占位符 46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6C5B-A6D2-4668-A7CB-F7B6813BC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7"/>
          <p:cNvGrpSpPr/>
          <p:nvPr/>
        </p:nvGrpSpPr>
        <p:grpSpPr>
          <a:xfrm>
            <a:off x="3580920" y="2612520"/>
            <a:ext cx="2057400" cy="2362680"/>
            <a:chOff x="3580920" y="2612520"/>
            <a:chExt cx="2057400" cy="2362680"/>
          </a:xfrm>
        </p:grpSpPr>
        <p:sp>
          <p:nvSpPr>
            <p:cNvPr id="341" name="Line 7"/>
            <p:cNvSpPr/>
            <p:nvPr/>
          </p:nvSpPr>
          <p:spPr>
            <a:xfrm flipH="1" flipV="1">
              <a:off x="3884400" y="2612520"/>
              <a:ext cx="1440" cy="66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8"/>
            <p:cNvGrpSpPr/>
            <p:nvPr/>
          </p:nvGrpSpPr>
          <p:grpSpPr>
            <a:xfrm>
              <a:off x="4876560" y="2917440"/>
              <a:ext cx="761760" cy="2057760"/>
              <a:chOff x="4876560" y="2917440"/>
              <a:chExt cx="761760" cy="2057760"/>
            </a:xfrm>
          </p:grpSpPr>
          <p:sp>
            <p:nvSpPr>
              <p:cNvPr id="343" name="Line 9"/>
              <p:cNvSpPr/>
              <p:nvPr/>
            </p:nvSpPr>
            <p:spPr>
              <a:xfrm flipV="1">
                <a:off x="5209920" y="291744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10"/>
              <p:cNvSpPr/>
              <p:nvPr/>
            </p:nvSpPr>
            <p:spPr>
              <a:xfrm rot="5400000">
                <a:off x="4380840" y="3717720"/>
                <a:ext cx="1752840" cy="761760"/>
              </a:xfrm>
              <a:prstGeom prst="parallelogram">
                <a:avLst>
                  <a:gd name="adj" fmla="val 57526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b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11"/>
            <p:cNvSpPr/>
            <p:nvPr/>
          </p:nvSpPr>
          <p:spPr>
            <a:xfrm rot="5400000">
              <a:off x="3683880" y="3500280"/>
              <a:ext cx="1752480" cy="739800"/>
            </a:xfrm>
            <a:prstGeom prst="parallelogram">
              <a:avLst>
                <a:gd name="adj" fmla="val 5922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5181480" y="2917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3883320" y="2627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7"/>
            <p:cNvSpPr/>
            <p:nvPr/>
          </p:nvSpPr>
          <p:spPr>
            <a:xfrm flipH="1" flipV="1">
              <a:off x="5256000" y="2765520"/>
              <a:ext cx="1440" cy="66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 rot="5400000">
              <a:off x="3074400" y="3450960"/>
              <a:ext cx="1752480" cy="739800"/>
            </a:xfrm>
            <a:prstGeom prst="parallelogram">
              <a:avLst>
                <a:gd name="adj" fmla="val 5922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99"/>
                  </a:solidFill>
                  <a:latin typeface="Arial"/>
                </a:rPr>
                <a:t>A</a:t>
              </a:r>
              <a:r>
                <a:rPr b="1" lang="en-US" sz="2400" spc="-1" strike="noStrike">
                  <a:solidFill>
                    <a:srgbClr val="ffff99"/>
                  </a:solidFill>
                  <a:latin typeface="Arial"/>
                  <a:ea typeface="바탕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Rectangle 2"/>
          <p:cNvSpPr/>
          <p:nvPr/>
        </p:nvSpPr>
        <p:spPr>
          <a:xfrm>
            <a:off x="1066680" y="4952880"/>
            <a:ext cx="1905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铅酸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18"/>
          <p:cNvGrpSpPr/>
          <p:nvPr/>
        </p:nvGrpSpPr>
        <p:grpSpPr>
          <a:xfrm>
            <a:off x="837720" y="2590560"/>
            <a:ext cx="2057400" cy="2361600"/>
            <a:chOff x="837720" y="2590560"/>
            <a:chExt cx="2057400" cy="2361600"/>
          </a:xfrm>
        </p:grpSpPr>
        <p:sp>
          <p:nvSpPr>
            <p:cNvPr id="352" name="Line 7"/>
            <p:cNvSpPr/>
            <p:nvPr/>
          </p:nvSpPr>
          <p:spPr>
            <a:xfrm flipH="1" flipV="1">
              <a:off x="1141200" y="2590560"/>
              <a:ext cx="1440" cy="667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8"/>
            <p:cNvGrpSpPr/>
            <p:nvPr/>
          </p:nvGrpSpPr>
          <p:grpSpPr>
            <a:xfrm>
              <a:off x="2133360" y="2895480"/>
              <a:ext cx="761760" cy="2056680"/>
              <a:chOff x="2133360" y="2895480"/>
              <a:chExt cx="761760" cy="2056680"/>
            </a:xfrm>
          </p:grpSpPr>
          <p:sp>
            <p:nvSpPr>
              <p:cNvPr id="354" name="Line 9"/>
              <p:cNvSpPr/>
              <p:nvPr/>
            </p:nvSpPr>
            <p:spPr>
              <a:xfrm flipV="1">
                <a:off x="2466720" y="2895480"/>
                <a:ext cx="0" cy="5328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10"/>
              <p:cNvSpPr/>
              <p:nvPr/>
            </p:nvSpPr>
            <p:spPr>
              <a:xfrm rot="5400000">
                <a:off x="1638000" y="3695040"/>
                <a:ext cx="1752480" cy="761760"/>
              </a:xfrm>
              <a:prstGeom prst="parallelogram">
                <a:avLst>
                  <a:gd name="adj" fmla="val 5751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b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AutoShape 11"/>
            <p:cNvSpPr/>
            <p:nvPr/>
          </p:nvSpPr>
          <p:spPr>
            <a:xfrm rot="5400000">
              <a:off x="940680" y="3477600"/>
              <a:ext cx="1752480" cy="739800"/>
            </a:xfrm>
            <a:prstGeom prst="parallelogram">
              <a:avLst>
                <a:gd name="adj" fmla="val 5922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3"/>
            <p:cNvSpPr/>
            <p:nvPr/>
          </p:nvSpPr>
          <p:spPr>
            <a:xfrm>
              <a:off x="2438280" y="2895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4"/>
            <p:cNvSpPr/>
            <p:nvPr/>
          </p:nvSpPr>
          <p:spPr>
            <a:xfrm>
              <a:off x="1140120" y="26049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7"/>
            <p:cNvSpPr/>
            <p:nvPr/>
          </p:nvSpPr>
          <p:spPr>
            <a:xfrm flipH="1" flipV="1">
              <a:off x="2512800" y="2742840"/>
              <a:ext cx="1440" cy="66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1"/>
            <p:cNvSpPr/>
            <p:nvPr/>
          </p:nvSpPr>
          <p:spPr>
            <a:xfrm rot="5400000">
              <a:off x="331200" y="3428640"/>
              <a:ext cx="1752120" cy="739800"/>
            </a:xfrm>
            <a:prstGeom prst="parallelogram">
              <a:avLst>
                <a:gd name="adj" fmla="val 5920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바탕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2"/>
          <p:cNvSpPr/>
          <p:nvPr/>
        </p:nvSpPr>
        <p:spPr>
          <a:xfrm>
            <a:off x="5867280" y="2438280"/>
            <a:ext cx="312444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负极为活性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不是铅酸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5867280" y="4646520"/>
            <a:ext cx="312444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0"/>
          <p:cNvSpPr/>
          <p:nvPr/>
        </p:nvSpPr>
        <p:spPr>
          <a:xfrm>
            <a:off x="2590920" y="1143000"/>
            <a:ext cx="43434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有三种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1"/>
          <p:cNvSpPr/>
          <p:nvPr/>
        </p:nvSpPr>
        <p:spPr>
          <a:xfrm>
            <a:off x="457200" y="457200"/>
            <a:ext cx="83311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5.2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铅酸电池中添加超级活性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5867280" y="4646520"/>
            <a:ext cx="312444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比能量较电池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比功率、寿命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电容器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9"/>
          <p:cNvSpPr/>
          <p:nvPr/>
        </p:nvSpPr>
        <p:spPr>
          <a:xfrm>
            <a:off x="1752480" y="725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228b"/>
                </a:solidFill>
                <a:latin typeface="黑体"/>
                <a:ea typeface="黑体"/>
              </a:rPr>
              <a:t>超级电容与电池性能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9960" y="1563840"/>
          <a:ext cx="8286840" cy="3840120"/>
        </p:xfrm>
        <a:graphic>
          <a:graphicData uri="http://schemas.openxmlformats.org/drawingml/2006/table">
            <a:tbl>
              <a:tblPr/>
              <a:tblGrid>
                <a:gridCol w="2457720"/>
                <a:gridCol w="1904760"/>
                <a:gridCol w="2019240"/>
                <a:gridCol w="1905120"/>
              </a:tblGrid>
              <a:tr h="64908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性  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铅酸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锂离子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超级电容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8640" rIns="864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充电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-5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-5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-30 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8640" rIns="864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寿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循环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&lt;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&lt;3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&gt;50</a:t>
                      </a: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8640" rIns="864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能量密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wh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-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0-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1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8640" rIns="864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功率密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kw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&lt;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5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8640" rIns="864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充放电效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0-8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&gt;9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&gt;9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8640" rIns="864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工作温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℃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20-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-30-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-40-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457200" y="1467000"/>
          <a:ext cx="8381880" cy="3949560"/>
        </p:xfrm>
        <a:graphic>
          <a:graphicData uri="http://schemas.openxmlformats.org/drawingml/2006/table">
            <a:tbl>
              <a:tblPr/>
              <a:tblGrid>
                <a:gridCol w="1905120"/>
                <a:gridCol w="1325520"/>
                <a:gridCol w="5151240"/>
              </a:tblGrid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pl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E Aw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$mil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id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hn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gie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with Axion Power Internati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of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advanced lead-acid batte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using lead-carbon electrodes for micro and mild hybridapplic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ast Pen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facturing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of the 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Arial"/>
                        </a:rPr>
                        <a:t>UltraBattery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for micro and mild hybrid applica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8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2, In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ion of high energy density nano-carbon for ultracapacito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6c6c6"/>
                      </a:solidFill>
                    </a:lnL>
                    <a:lnR w="5760">
                      <a:solidFill>
                        <a:srgbClr val="c6c6c6"/>
                      </a:solidFill>
                    </a:lnR>
                    <a:lnT w="5760">
                      <a:solidFill>
                        <a:srgbClr val="c6c6c6"/>
                      </a:solidFill>
                    </a:lnT>
                    <a:lnB w="5760">
                      <a:solidFill>
                        <a:srgbClr val="c6c6c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7" name="Rectangle 24"/>
          <p:cNvSpPr/>
          <p:nvPr/>
        </p:nvSpPr>
        <p:spPr>
          <a:xfrm>
            <a:off x="220680" y="497880"/>
            <a:ext cx="87012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奥巴马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：新一代电池及材料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$15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亿，约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￥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其中的铅酸电池及材料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5"/>
          <p:cNvSpPr/>
          <p:nvPr/>
        </p:nvSpPr>
        <p:spPr>
          <a:xfrm>
            <a:off x="1143000" y="3371760"/>
            <a:ext cx="7010280" cy="477720"/>
          </a:xfrm>
          <a:prstGeom prst="rect">
            <a:avLst/>
          </a:prstGeom>
          <a:solidFill>
            <a:srgbClr val="ffff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约合人民币</a:t>
            </a: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4.7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亿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元，资助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两种新型铅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1143000" y="5334120"/>
            <a:ext cx="7010280" cy="477720"/>
          </a:xfrm>
          <a:prstGeom prst="rect">
            <a:avLst/>
          </a:prstGeom>
          <a:solidFill>
            <a:srgbClr val="ffff00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约合人民币</a:t>
            </a:r>
            <a:r>
              <a:rPr b="1" lang="en-US" sz="2800" spc="-1" strike="noStrike">
                <a:solidFill>
                  <a:srgbClr val="a50021"/>
                </a:solidFill>
                <a:latin typeface="黑体"/>
                <a:ea typeface="黑体"/>
              </a:rPr>
              <a:t>1.5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亿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元，资助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高能密度纳米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5"/>
          <p:cNvSpPr/>
          <p:nvPr/>
        </p:nvSpPr>
        <p:spPr>
          <a:xfrm>
            <a:off x="65530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260D-E08D-4DA3-9158-D315B23D1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28600" y="4038480"/>
            <a:ext cx="1905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铅酸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5562720" y="762120"/>
            <a:ext cx="259056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超级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  <a:ea typeface="黑体"/>
              </a:rPr>
              <a:t>UltraBa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"/>
          <p:cNvSpPr/>
          <p:nvPr/>
        </p:nvSpPr>
        <p:spPr>
          <a:xfrm flipV="1">
            <a:off x="2819520" y="2258640"/>
            <a:ext cx="10666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"/>
          <p:cNvSpPr/>
          <p:nvPr/>
        </p:nvSpPr>
        <p:spPr>
          <a:xfrm>
            <a:off x="2819520" y="3402000"/>
            <a:ext cx="10666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6553080" y="2384280"/>
            <a:ext cx="2362320" cy="1245240"/>
          </a:xfrm>
          <a:prstGeom prst="rect">
            <a:avLst/>
          </a:prstGeom>
          <a:solidFill>
            <a:srgbClr val="0066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充放电倍率高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循环寿命延长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6"/>
          <p:cNvGrpSpPr/>
          <p:nvPr/>
        </p:nvGrpSpPr>
        <p:grpSpPr>
          <a:xfrm>
            <a:off x="4038480" y="1219320"/>
            <a:ext cx="2133360" cy="2818800"/>
            <a:chOff x="4038480" y="1219320"/>
            <a:chExt cx="2133360" cy="2818800"/>
          </a:xfrm>
        </p:grpSpPr>
        <p:grpSp>
          <p:nvGrpSpPr>
            <p:cNvPr id="377" name="Group 17"/>
            <p:cNvGrpSpPr/>
            <p:nvPr/>
          </p:nvGrpSpPr>
          <p:grpSpPr>
            <a:xfrm>
              <a:off x="5409720" y="1752480"/>
              <a:ext cx="762120" cy="2285640"/>
              <a:chOff x="5409720" y="1752480"/>
              <a:chExt cx="762120" cy="2285640"/>
            </a:xfrm>
          </p:grpSpPr>
          <p:sp>
            <p:nvSpPr>
              <p:cNvPr id="378" name="Line 18"/>
              <p:cNvSpPr/>
              <p:nvPr/>
            </p:nvSpPr>
            <p:spPr>
              <a:xfrm flipV="1">
                <a:off x="5815800" y="1815840"/>
                <a:ext cx="1440" cy="44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AutoShape 19"/>
              <p:cNvSpPr/>
              <p:nvPr/>
            </p:nvSpPr>
            <p:spPr>
              <a:xfrm rot="5400000">
                <a:off x="4647960" y="2514240"/>
                <a:ext cx="2285640" cy="762120"/>
              </a:xfrm>
              <a:prstGeom prst="parallelogram">
                <a:avLst>
                  <a:gd name="adj" fmla="val 108577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b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AutoShape 20"/>
            <p:cNvSpPr/>
            <p:nvPr/>
          </p:nvSpPr>
          <p:spPr>
            <a:xfrm rot="5400000">
              <a:off x="3962160" y="2209320"/>
              <a:ext cx="2285640" cy="762120"/>
            </a:xfrm>
            <a:prstGeom prst="parallelogram">
              <a:avLst>
                <a:gd name="adj" fmla="val 1085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21"/>
            <p:cNvSpPr/>
            <p:nvPr/>
          </p:nvSpPr>
          <p:spPr>
            <a:xfrm rot="5400000">
              <a:off x="3733560" y="2437920"/>
              <a:ext cx="1904400" cy="533160"/>
            </a:xfrm>
            <a:prstGeom prst="parallelogram">
              <a:avLst>
                <a:gd name="adj" fmla="val 8929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2"/>
            <p:cNvSpPr/>
            <p:nvPr/>
          </p:nvSpPr>
          <p:spPr>
            <a:xfrm flipV="1">
              <a:off x="4724280" y="18284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23"/>
            <p:cNvSpPr/>
            <p:nvPr/>
          </p:nvSpPr>
          <p:spPr>
            <a:xfrm>
              <a:off x="4267080" y="1371240"/>
              <a:ext cx="457200" cy="45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4"/>
            <p:cNvSpPr/>
            <p:nvPr/>
          </p:nvSpPr>
          <p:spPr>
            <a:xfrm flipV="1">
              <a:off x="4267080" y="1371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5"/>
            <p:cNvSpPr/>
            <p:nvPr/>
          </p:nvSpPr>
          <p:spPr>
            <a:xfrm flipV="1">
              <a:off x="4527720" y="1317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26"/>
            <p:cNvSpPr/>
            <p:nvPr/>
          </p:nvSpPr>
          <p:spPr>
            <a:xfrm rot="5400000">
              <a:off x="3276360" y="2133000"/>
              <a:ext cx="1981080" cy="457200"/>
            </a:xfrm>
            <a:prstGeom prst="parallelogram">
              <a:avLst>
                <a:gd name="adj" fmla="val 10832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7"/>
            <p:cNvSpPr/>
            <p:nvPr/>
          </p:nvSpPr>
          <p:spPr>
            <a:xfrm>
              <a:off x="5807520" y="18284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8"/>
            <p:cNvSpPr/>
            <p:nvPr/>
          </p:nvSpPr>
          <p:spPr>
            <a:xfrm>
              <a:off x="4543920" y="12193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29"/>
          <p:cNvSpPr/>
          <p:nvPr/>
        </p:nvSpPr>
        <p:spPr>
          <a:xfrm>
            <a:off x="1828800" y="5154480"/>
            <a:ext cx="2590920" cy="1019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铅炭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  <a:ea typeface="黑体"/>
              </a:rPr>
              <a:t>advanced lead-acid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1"/>
          <p:cNvGrpSpPr/>
          <p:nvPr/>
        </p:nvGrpSpPr>
        <p:grpSpPr>
          <a:xfrm>
            <a:off x="4038120" y="3706560"/>
            <a:ext cx="2133720" cy="2312640"/>
            <a:chOff x="4038120" y="3706560"/>
            <a:chExt cx="2133720" cy="2312640"/>
          </a:xfrm>
        </p:grpSpPr>
        <p:grpSp>
          <p:nvGrpSpPr>
            <p:cNvPr id="391" name="Group 31"/>
            <p:cNvGrpSpPr/>
            <p:nvPr/>
          </p:nvGrpSpPr>
          <p:grpSpPr>
            <a:xfrm>
              <a:off x="4038120" y="3706560"/>
              <a:ext cx="2133720" cy="2312640"/>
              <a:chOff x="4038120" y="3706560"/>
              <a:chExt cx="2133720" cy="2312640"/>
            </a:xfrm>
          </p:grpSpPr>
          <p:sp>
            <p:nvSpPr>
              <p:cNvPr id="392" name="Line 32"/>
              <p:cNvSpPr/>
              <p:nvPr/>
            </p:nvSpPr>
            <p:spPr>
              <a:xfrm flipH="1" flipV="1">
                <a:off x="4417920" y="3706560"/>
                <a:ext cx="1440" cy="65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33"/>
              <p:cNvGrpSpPr/>
              <p:nvPr/>
            </p:nvGrpSpPr>
            <p:grpSpPr>
              <a:xfrm>
                <a:off x="5410080" y="4005000"/>
                <a:ext cx="761760" cy="2014200"/>
                <a:chOff x="5410080" y="4005000"/>
                <a:chExt cx="761760" cy="2014200"/>
              </a:xfrm>
            </p:grpSpPr>
            <p:sp>
              <p:nvSpPr>
                <p:cNvPr id="394" name="Line 34"/>
                <p:cNvSpPr/>
                <p:nvPr/>
              </p:nvSpPr>
              <p:spPr>
                <a:xfrm flipV="1">
                  <a:off x="5743440" y="4005000"/>
                  <a:ext cx="0" cy="521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AutoShape 35"/>
                <p:cNvSpPr/>
                <p:nvPr/>
              </p:nvSpPr>
              <p:spPr>
                <a:xfrm rot="5400000">
                  <a:off x="4933080" y="4780440"/>
                  <a:ext cx="1715760" cy="761760"/>
                </a:xfrm>
                <a:prstGeom prst="parallelogram">
                  <a:avLst>
                    <a:gd name="adj" fmla="val 56309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PbO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AutoShape 36"/>
              <p:cNvSpPr/>
              <p:nvPr/>
            </p:nvSpPr>
            <p:spPr>
              <a:xfrm rot="5400000">
                <a:off x="4235760" y="4567680"/>
                <a:ext cx="1716120" cy="739800"/>
              </a:xfrm>
              <a:prstGeom prst="parallelogram">
                <a:avLst>
                  <a:gd name="adj" fmla="val 5799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37"/>
              <p:cNvSpPr/>
              <p:nvPr/>
            </p:nvSpPr>
            <p:spPr>
              <a:xfrm rot="5400000">
                <a:off x="3561120" y="4482000"/>
                <a:ext cx="1715760" cy="762120"/>
              </a:xfrm>
              <a:prstGeom prst="parallelogram">
                <a:avLst>
                  <a:gd name="adj" fmla="val 56282"/>
                </a:avLst>
              </a:pr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P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Rectangle 38"/>
            <p:cNvSpPr/>
            <p:nvPr/>
          </p:nvSpPr>
          <p:spPr>
            <a:xfrm>
              <a:off x="5763240" y="4011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9"/>
            <p:cNvSpPr/>
            <p:nvPr/>
          </p:nvSpPr>
          <p:spPr>
            <a:xfrm>
              <a:off x="4416840" y="370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40"/>
          <p:cNvSpPr/>
          <p:nvPr/>
        </p:nvSpPr>
        <p:spPr>
          <a:xfrm>
            <a:off x="6553080" y="4114800"/>
            <a:ext cx="2362320" cy="2012760"/>
          </a:xfrm>
          <a:prstGeom prst="rect">
            <a:avLst/>
          </a:prstGeom>
          <a:solidFill>
            <a:srgbClr val="0066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优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比超级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工艺简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保留铅酸电池的全部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2"/>
          <p:cNvSpPr/>
          <p:nvPr/>
        </p:nvSpPr>
        <p:spPr>
          <a:xfrm>
            <a:off x="380880" y="228600"/>
            <a:ext cx="3276720" cy="58140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⑵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超级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灯片编号占位符 46"/>
          <p:cNvSpPr/>
          <p:nvPr/>
        </p:nvSpPr>
        <p:spPr>
          <a:xfrm>
            <a:off x="6553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3D8A-7EFB-4F46-AE1A-F5FF2E8B8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36"/>
          <p:cNvGrpSpPr/>
          <p:nvPr/>
        </p:nvGrpSpPr>
        <p:grpSpPr>
          <a:xfrm>
            <a:off x="533160" y="1828800"/>
            <a:ext cx="2057400" cy="2362320"/>
            <a:chOff x="533160" y="1828800"/>
            <a:chExt cx="2057400" cy="2362320"/>
          </a:xfrm>
        </p:grpSpPr>
        <p:sp>
          <p:nvSpPr>
            <p:cNvPr id="404" name="Line 7"/>
            <p:cNvSpPr/>
            <p:nvPr/>
          </p:nvSpPr>
          <p:spPr>
            <a:xfrm flipH="1" flipV="1">
              <a:off x="836640" y="1828800"/>
              <a:ext cx="1440" cy="66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8"/>
            <p:cNvGrpSpPr/>
            <p:nvPr/>
          </p:nvGrpSpPr>
          <p:grpSpPr>
            <a:xfrm>
              <a:off x="1828800" y="2133360"/>
              <a:ext cx="761760" cy="2057760"/>
              <a:chOff x="1828800" y="2133360"/>
              <a:chExt cx="761760" cy="2057760"/>
            </a:xfrm>
          </p:grpSpPr>
          <p:sp>
            <p:nvSpPr>
              <p:cNvPr id="406" name="Line 9"/>
              <p:cNvSpPr/>
              <p:nvPr/>
            </p:nvSpPr>
            <p:spPr>
              <a:xfrm flipV="1">
                <a:off x="2162160" y="2133360"/>
                <a:ext cx="0" cy="5331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10"/>
              <p:cNvSpPr/>
              <p:nvPr/>
            </p:nvSpPr>
            <p:spPr>
              <a:xfrm rot="5400000">
                <a:off x="1333080" y="2933640"/>
                <a:ext cx="1752840" cy="761760"/>
              </a:xfrm>
              <a:prstGeom prst="parallelogram">
                <a:avLst>
                  <a:gd name="adj" fmla="val 57526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b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AutoShape 11"/>
            <p:cNvSpPr/>
            <p:nvPr/>
          </p:nvSpPr>
          <p:spPr>
            <a:xfrm rot="5400000">
              <a:off x="635760" y="2716200"/>
              <a:ext cx="1752840" cy="739800"/>
            </a:xfrm>
            <a:prstGeom prst="parallelogram">
              <a:avLst>
                <a:gd name="adj" fmla="val 5923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3"/>
            <p:cNvSpPr/>
            <p:nvPr/>
          </p:nvSpPr>
          <p:spPr>
            <a:xfrm>
              <a:off x="2133720" y="2133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4"/>
            <p:cNvSpPr/>
            <p:nvPr/>
          </p:nvSpPr>
          <p:spPr>
            <a:xfrm>
              <a:off x="835560" y="1843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Arial"/>
                </a:rPr>
                <a:t>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7"/>
            <p:cNvSpPr/>
            <p:nvPr/>
          </p:nvSpPr>
          <p:spPr>
            <a:xfrm flipH="1" flipV="1">
              <a:off x="2208240" y="1980720"/>
              <a:ext cx="1440" cy="66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11"/>
            <p:cNvSpPr/>
            <p:nvPr/>
          </p:nvSpPr>
          <p:spPr>
            <a:xfrm rot="5400000">
              <a:off x="26640" y="2666880"/>
              <a:ext cx="1752480" cy="739800"/>
            </a:xfrm>
            <a:prstGeom prst="parallelogram">
              <a:avLst>
                <a:gd name="adj" fmla="val 5922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바탕"/>
                </a:rPr>
                <a:t>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42"/>
          <p:cNvSpPr/>
          <p:nvPr/>
        </p:nvSpPr>
        <p:spPr>
          <a:xfrm>
            <a:off x="380880" y="838080"/>
            <a:ext cx="3276720" cy="58140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⑶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铅炭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268-AEBF-4CBB-9524-B47554EBD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380880" y="60948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防化研究院与两家公司合作研制铅炭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1219320" y="111132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杭州南都公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密封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泰州双登集团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卷绕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5486400" y="1219320"/>
            <a:ext cx="2438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取得完全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1066680" y="2057400"/>
            <a:ext cx="760572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解决了严重析气问题；新研制了超级活性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04920" y="2590920"/>
            <a:ext cx="8610480" cy="533160"/>
          </a:xfrm>
          <a:prstGeom prst="rect">
            <a:avLst/>
          </a:prstGeom>
          <a:solidFill>
            <a:srgbClr val="bbe0e3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双登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-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防化研究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合作的卷绕式铅炭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990720" y="3124080"/>
            <a:ext cx="7238880" cy="86148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放电比功率提高到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900W/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已通过江苏省鉴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990720" y="4038480"/>
            <a:ext cx="7238880" cy="47772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双登集团还研制成功密封式铅炭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04920" y="4724280"/>
            <a:ext cx="8610480" cy="533520"/>
          </a:xfrm>
          <a:prstGeom prst="rect">
            <a:avLst/>
          </a:prstGeom>
          <a:solidFill>
            <a:srgbClr val="bbe0e3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南都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黑体"/>
              </a:rPr>
              <a:t>-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防化研究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合作的密封式铅炭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990720" y="5715000"/>
            <a:ext cx="7238880" cy="47772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鉴定结论：达到国际先进水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6"/>
          <p:cNvSpPr/>
          <p:nvPr/>
        </p:nvSpPr>
        <p:spPr>
          <a:xfrm>
            <a:off x="990720" y="5257800"/>
            <a:ext cx="7238880" cy="477720"/>
          </a:xfrm>
          <a:prstGeom prst="rect">
            <a:avLst/>
          </a:prstGeom>
          <a:solidFill>
            <a:srgbClr val="cc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201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月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17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日国家能源局组织鉴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3429000" y="5867280"/>
            <a:ext cx="2895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00"/>
                </a:solidFill>
                <a:latin typeface="Arial"/>
              </a:rPr>
              <a:t>充电时间，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1042920" y="1447920"/>
            <a:ext cx="6913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-DFM-75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0%DOD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放电后的快速充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4038480" y="2666880"/>
            <a:ext cx="3048120" cy="990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时充电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9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时充满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3564000" y="708120"/>
            <a:ext cx="4295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合作研制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铅炭电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971640" y="631800"/>
            <a:ext cx="3025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杭州南都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防化研究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0" y="76320"/>
            <a:ext cx="288144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南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铅炭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920000" cy="54421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3"/>
          <p:cNvSpPr/>
          <p:nvPr/>
        </p:nvSpPr>
        <p:spPr>
          <a:xfrm>
            <a:off x="2112840" y="4060800"/>
            <a:ext cx="2276640" cy="861480"/>
          </a:xfrm>
          <a:prstGeom prst="rect">
            <a:avLst/>
          </a:prstGeom>
          <a:solidFill>
            <a:srgbClr val="0033cc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铅炭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充电电压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250920" y="71496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普通铅酸电池比较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放电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5175360" y="3809880"/>
            <a:ext cx="2276280" cy="861480"/>
          </a:xfrm>
          <a:prstGeom prst="rect">
            <a:avLst/>
          </a:prstGeom>
          <a:solidFill>
            <a:srgbClr val="0033cc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铅炭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放电电压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6"/>
          <p:cNvSpPr/>
          <p:nvPr/>
        </p:nvSpPr>
        <p:spPr>
          <a:xfrm>
            <a:off x="0" y="76320"/>
            <a:ext cx="288144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南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铅炭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21000">
            <a:off x="2741760" y="2236680"/>
            <a:ext cx="3429000" cy="486000"/>
          </a:xfrm>
          <a:prstGeom prst="leftArrow">
            <a:avLst>
              <a:gd name="adj1" fmla="val 50000"/>
              <a:gd name="adj2" fmla="val 176389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21307800">
            <a:off x="3276360" y="3225960"/>
            <a:ext cx="2895480" cy="485640"/>
          </a:xfrm>
          <a:prstGeom prst="leftArrow">
            <a:avLst>
              <a:gd name="adj1" fmla="val 50000"/>
              <a:gd name="adj2" fmla="val 149055"/>
            </a:avLst>
          </a:prstGeom>
          <a:noFill/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533520" y="783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低温放电性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685800" y="146088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>
              <a:lnSpc>
                <a:spcPct val="100000"/>
              </a:lnSpc>
              <a:spcAft>
                <a:spcPts val="1049"/>
              </a:spcAft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电池的低温放电性能按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GB/T 22473-2008 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储能用铅酸蓄电池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检测标准测试， 标准要求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10℃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0h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率放电容量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大于</a:t>
            </a:r>
            <a:r>
              <a:rPr b="1" lang="en-US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测试结果达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90%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以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"/>
          <p:cNvSpPr/>
          <p:nvPr/>
        </p:nvSpPr>
        <p:spPr>
          <a:xfrm>
            <a:off x="533520" y="3077280"/>
            <a:ext cx="29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安全性能测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4"/>
          <p:cNvSpPr/>
          <p:nvPr/>
        </p:nvSpPr>
        <p:spPr>
          <a:xfrm>
            <a:off x="630360" y="3526920"/>
            <a:ext cx="78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>
              <a:lnSpc>
                <a:spcPct val="100000"/>
              </a:lnSpc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照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EC 60896-22:200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测标准测试，所检安全性能及技术指标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4"/>
          <p:cNvSpPr/>
          <p:nvPr/>
        </p:nvSpPr>
        <p:spPr>
          <a:xfrm>
            <a:off x="633240" y="4646520"/>
            <a:ext cx="78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>
              <a:lnSpc>
                <a:spcPct val="100000"/>
              </a:lnSpc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大电流耐受能力、短路电流与内阻水平、防爆能力、热失控敏感性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4"/>
          <p:cNvSpPr/>
          <p:nvPr/>
        </p:nvSpPr>
        <p:spPr>
          <a:xfrm>
            <a:off x="633240" y="5347440"/>
            <a:ext cx="78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>
              <a:lnSpc>
                <a:spcPct val="100000"/>
              </a:lnSpc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均达到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IEC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标准规定的要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2"/>
          <p:cNvSpPr/>
          <p:nvPr/>
        </p:nvSpPr>
        <p:spPr>
          <a:xfrm>
            <a:off x="0" y="76320"/>
            <a:ext cx="288144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南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铅炭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0" y="2706840"/>
          <a:ext cx="9144000" cy="3163680"/>
        </p:xfrm>
        <a:graphic>
          <a:graphicData uri="http://schemas.openxmlformats.org/drawingml/2006/table">
            <a:tbl>
              <a:tblPr/>
              <a:tblGrid>
                <a:gridCol w="1523880"/>
                <a:gridCol w="990720"/>
                <a:gridCol w="990720"/>
                <a:gridCol w="1447560"/>
                <a:gridCol w="1524240"/>
                <a:gridCol w="1119240"/>
                <a:gridCol w="1547640"/>
              </a:tblGrid>
              <a:tr h="102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75A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7480" indent="-874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功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7480" indent="-874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W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比能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W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C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倍率放电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HRPS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电循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寿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-20℃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下放电时间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快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普通铅酸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无法放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8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4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2080" indent="-262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铅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2080" indent="-262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9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&gt;16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5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1h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黑体"/>
                          <a:ea typeface="黑体"/>
                        </a:rPr>
                        <a:t>充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2h</a:t>
                      </a:r>
                      <a:r>
                        <a:rPr b="1" lang="zh-CN" sz="2400" spc="-1" strike="noStrike">
                          <a:solidFill>
                            <a:srgbClr val="0000cc"/>
                          </a:solidFill>
                          <a:latin typeface="Arial"/>
                          <a:ea typeface="黑体"/>
                        </a:rPr>
                        <a:t>充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铅炭电池性能提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未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远好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普通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&gt;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远好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普通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Rectangle 44"/>
          <p:cNvSpPr/>
          <p:nvPr/>
        </p:nvSpPr>
        <p:spPr>
          <a:xfrm>
            <a:off x="2286000" y="20574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同尺寸铅酸电池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5"/>
          <p:cNvSpPr/>
          <p:nvPr/>
        </p:nvSpPr>
        <p:spPr>
          <a:xfrm>
            <a:off x="0" y="76320"/>
            <a:ext cx="288144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南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铅炭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395280" y="6087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量转换效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5"/>
          <p:cNvSpPr/>
          <p:nvPr/>
        </p:nvSpPr>
        <p:spPr>
          <a:xfrm>
            <a:off x="762120" y="114264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1440" indent="-271440">
              <a:lnSpc>
                <a:spcPct val="100000"/>
              </a:lnSpc>
              <a:spcAft>
                <a:spcPts val="1049"/>
              </a:spcAft>
              <a:buClr>
                <a:srgbClr val="ff33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铅炭电池处于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0%SoC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时，</a:t>
            </a:r>
            <a:r>
              <a:rPr b="1" lang="zh-CN" sz="2800" spc="-1" strike="noStrike">
                <a:solidFill>
                  <a:srgbClr val="0000cc"/>
                </a:solidFill>
                <a:latin typeface="华文细黑"/>
                <a:ea typeface="华文细黑"/>
              </a:rPr>
              <a:t>能量转换效率达到</a:t>
            </a:r>
            <a:r>
              <a:rPr b="1" lang="en-US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，常规铅酸电池仅为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36000" cy="79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铅炭电池可为节能和可再生能源利用做大贡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901800" y="1484280"/>
            <a:ext cx="7416720" cy="477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微混、轻混、微型等汽车的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901800" y="4726080"/>
            <a:ext cx="7416720" cy="477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电动自行车、电动摩托延长低温里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901800" y="2997360"/>
            <a:ext cx="7416720" cy="477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坦克、装甲车的启动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2"/>
          <p:cNvSpPr/>
          <p:nvPr/>
        </p:nvSpPr>
        <p:spPr>
          <a:xfrm>
            <a:off x="900000" y="2060640"/>
            <a:ext cx="7418520" cy="86148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类似于港机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部分荷电态高功率循环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HRPS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如电梯等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短时间电能回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0"/>
          <p:cNvSpPr/>
          <p:nvPr/>
        </p:nvSpPr>
        <p:spPr>
          <a:xfrm>
            <a:off x="900000" y="5294160"/>
            <a:ext cx="7418520" cy="477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家庭小规模储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1"/>
          <p:cNvSpPr/>
          <p:nvPr/>
        </p:nvSpPr>
        <p:spPr>
          <a:xfrm>
            <a:off x="901800" y="4148280"/>
            <a:ext cx="7416720" cy="477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边防哨所、海岛、国防工事的电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1"/>
          <p:cNvSpPr/>
          <p:nvPr/>
        </p:nvSpPr>
        <p:spPr>
          <a:xfrm>
            <a:off x="901800" y="3571920"/>
            <a:ext cx="7416720" cy="47772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常规潜艇动力电源；核潜艇辅助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7"/>
          <p:cNvSpPr/>
          <p:nvPr/>
        </p:nvSpPr>
        <p:spPr>
          <a:xfrm>
            <a:off x="539640" y="384120"/>
            <a:ext cx="7848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津港起重机能量回收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IMG_8712"/>
          <p:cNvPicPr/>
          <p:nvPr/>
        </p:nvPicPr>
        <p:blipFill>
          <a:blip r:embed="rId1"/>
          <a:stretch/>
        </p:blipFill>
        <p:spPr>
          <a:xfrm>
            <a:off x="6397560" y="1066680"/>
            <a:ext cx="1879560" cy="3353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461" name="Picture 2" descr="IMG_8683"/>
          <p:cNvPicPr/>
          <p:nvPr/>
        </p:nvPicPr>
        <p:blipFill>
          <a:blip r:embed="rId2"/>
          <a:stretch/>
        </p:blipFill>
        <p:spPr>
          <a:xfrm>
            <a:off x="762120" y="1066680"/>
            <a:ext cx="5424480" cy="33530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462" name="AutoShape 4"/>
          <p:cNvSpPr/>
          <p:nvPr/>
        </p:nvSpPr>
        <p:spPr>
          <a:xfrm>
            <a:off x="6415200" y="1066680"/>
            <a:ext cx="1828800" cy="609840"/>
          </a:xfrm>
          <a:prstGeom prst="wedgeRectCallout">
            <a:avLst>
              <a:gd name="adj1" fmla="val -112759"/>
              <a:gd name="adj2" fmla="val 331773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*48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只南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-DFM-125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电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5"/>
          <p:cNvSpPr/>
          <p:nvPr/>
        </p:nvSpPr>
        <p:spPr>
          <a:xfrm flipH="1">
            <a:off x="5029200" y="1676520"/>
            <a:ext cx="1014480" cy="401400"/>
          </a:xfrm>
          <a:prstGeom prst="wedgeRectCallout">
            <a:avLst>
              <a:gd name="adj1" fmla="val 41388"/>
              <a:gd name="adj2" fmla="val 144861"/>
            </a:avLst>
          </a:prstGeom>
          <a:solidFill>
            <a:srgbClr val="bbe0e3">
              <a:alpha val="3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控制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6"/>
          <p:cNvSpPr/>
          <p:nvPr/>
        </p:nvSpPr>
        <p:spPr>
          <a:xfrm>
            <a:off x="1344600" y="2944800"/>
            <a:ext cx="1384200" cy="473040"/>
          </a:xfrm>
          <a:prstGeom prst="wedgeRectCallout">
            <a:avLst>
              <a:gd name="adj1" fmla="val 61240"/>
              <a:gd name="adj2" fmla="val 95638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柴油机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7"/>
          <p:cNvSpPr/>
          <p:nvPr/>
        </p:nvSpPr>
        <p:spPr>
          <a:xfrm flipH="1">
            <a:off x="5102280" y="3940200"/>
            <a:ext cx="1069920" cy="415800"/>
          </a:xfrm>
          <a:prstGeom prst="wedgeRectCallout">
            <a:avLst>
              <a:gd name="adj1" fmla="val 43768"/>
              <a:gd name="adj2" fmla="val -97328"/>
            </a:avLst>
          </a:prstGeom>
          <a:solidFill>
            <a:srgbClr val="bbe0e3">
              <a:alpha val="3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配电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762120" y="4508640"/>
            <a:ext cx="7543800" cy="1957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838080" y="4516560"/>
            <a:ext cx="739152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回收集装箱下降时的能量，节能约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-50%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三年可节电约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万千瓦时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起吊初期的瞬时大功率由电池组提供，减小对电网的冲击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完成油改电的场地可完全取消油机，减少噪音及空气污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目前已在天津港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只机组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765000" y="10666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58C-92B2-49FC-876B-A7E44155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"/>
          <p:cNvSpPr/>
          <p:nvPr/>
        </p:nvSpPr>
        <p:spPr>
          <a:xfrm>
            <a:off x="304920" y="762120"/>
            <a:ext cx="8610480" cy="1346040"/>
          </a:xfrm>
          <a:prstGeom prst="rect">
            <a:avLst/>
          </a:prstGeom>
          <a:solidFill>
            <a:srgbClr val="bbe0e3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科技日报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201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1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日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四川能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电子科大合作  研制成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/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304920" y="2286000"/>
            <a:ext cx="861048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天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公司也宣称：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/C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电池研制成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4D60-D5DE-4271-8E8F-E3E312128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5"/>
          <p:cNvSpPr/>
          <p:nvPr/>
        </p:nvSpPr>
        <p:spPr>
          <a:xfrm>
            <a:off x="914400" y="3200400"/>
            <a:ext cx="7543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铅炭电池已引起政府部门重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工信部列入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01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年“强基工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评审，支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双登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南都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两家分别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牵头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	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 进行工程化开发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523880"/>
            <a:ext cx="853416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超级电容器技术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273400"/>
            <a:ext cx="8534160" cy="62208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超级电容器在电动汽车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35160"/>
            <a:ext cx="8534160" cy="6224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超级电容器在规模储能中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797280"/>
            <a:ext cx="8534160" cy="5461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超级电容器的技术发展动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495680"/>
            <a:ext cx="85341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457200" y="55627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本高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镍氢电池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决没有研制者所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电动车电源的一个新突破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它将对电动车产业发展带来深刻影响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826920" y="506520"/>
            <a:ext cx="7490160" cy="76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5.3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镍氢电池中添加超级活性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380880" y="4495680"/>
            <a:ext cx="8305920" cy="914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研制者已表示</a:t>
            </a:r>
            <a:r>
              <a:rPr b="1" i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镍碳超级电容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的名称不对！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山东理工大学已改称为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镍氢动力电容电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7092720" y="1797120"/>
            <a:ext cx="1904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镍碳超级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电容器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179280" y="208440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镍氢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9"/>
          <p:cNvGrpSpPr/>
          <p:nvPr/>
        </p:nvGrpSpPr>
        <p:grpSpPr>
          <a:xfrm>
            <a:off x="4802400" y="1295280"/>
            <a:ext cx="2205720" cy="2027160"/>
            <a:chOff x="4802400" y="1295280"/>
            <a:chExt cx="2205720" cy="2027160"/>
          </a:xfrm>
        </p:grpSpPr>
        <p:sp>
          <p:nvSpPr>
            <p:cNvPr id="480" name="AutoShape 10"/>
            <p:cNvSpPr/>
            <p:nvPr/>
          </p:nvSpPr>
          <p:spPr>
            <a:xfrm rot="5400000">
              <a:off x="4489200" y="2036520"/>
              <a:ext cx="1600200" cy="971640"/>
            </a:xfrm>
            <a:prstGeom prst="parallelogram">
              <a:avLst>
                <a:gd name="adj" fmla="val 41173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11"/>
            <p:cNvSpPr/>
            <p:nvPr/>
          </p:nvSpPr>
          <p:spPr>
            <a:xfrm rot="5400000">
              <a:off x="5165280" y="2036520"/>
              <a:ext cx="1600200" cy="971640"/>
            </a:xfrm>
            <a:prstGeom prst="parallelogram">
              <a:avLst>
                <a:gd name="adj" fmla="val 4117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12"/>
            <p:cNvSpPr/>
            <p:nvPr/>
          </p:nvSpPr>
          <p:spPr>
            <a:xfrm rot="5400000">
              <a:off x="5722200" y="2036520"/>
              <a:ext cx="1600200" cy="971640"/>
            </a:xfrm>
            <a:prstGeom prst="parallelogram">
              <a:avLst>
                <a:gd name="adj" fmla="val 4117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B</a:t>
              </a:r>
              <a:r>
                <a:rPr b="1" lang="en-US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 flipV="1">
              <a:off x="6545520" y="1417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 flipV="1">
              <a:off x="5312880" y="1417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5"/>
            <p:cNvSpPr/>
            <p:nvPr/>
          </p:nvSpPr>
          <p:spPr>
            <a:xfrm>
              <a:off x="4802400" y="129528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6"/>
            <p:cNvSpPr/>
            <p:nvPr/>
          </p:nvSpPr>
          <p:spPr>
            <a:xfrm>
              <a:off x="6577920" y="13413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Line 21"/>
          <p:cNvSpPr/>
          <p:nvPr/>
        </p:nvSpPr>
        <p:spPr>
          <a:xfrm flipV="1">
            <a:off x="3797280" y="145404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2"/>
          <p:cNvSpPr/>
          <p:nvPr/>
        </p:nvSpPr>
        <p:spPr>
          <a:xfrm flipV="1">
            <a:off x="2563920" y="145404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2052720" y="13320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3830760" y="137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609480" y="33526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科琴炭在负极占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-3%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高导电性活性炭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400m</a:t>
            </a:r>
            <a:r>
              <a:rPr b="1" lang="en-US" sz="2800" spc="-1" strike="noStrike" baseline="30000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/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6"/>
          <p:cNvSpPr/>
          <p:nvPr/>
        </p:nvSpPr>
        <p:spPr>
          <a:xfrm>
            <a:off x="4876920" y="3352680"/>
            <a:ext cx="3962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活性炭在负极中占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（发生燃烧后已减少用量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8"/>
          <p:cNvSpPr/>
          <p:nvPr/>
        </p:nvSpPr>
        <p:spPr>
          <a:xfrm rot="5400000">
            <a:off x="1740240" y="2072520"/>
            <a:ext cx="1600200" cy="973080"/>
          </a:xfrm>
          <a:prstGeom prst="parallelogram">
            <a:avLst>
              <a:gd name="adj" fmla="val 4111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9"/>
          <p:cNvSpPr/>
          <p:nvPr/>
        </p:nvSpPr>
        <p:spPr>
          <a:xfrm rot="5400000">
            <a:off x="2416680" y="2072520"/>
            <a:ext cx="1600200" cy="973080"/>
          </a:xfrm>
          <a:prstGeom prst="parallelogram">
            <a:avLst>
              <a:gd name="adj" fmla="val 411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0"/>
          <p:cNvSpPr/>
          <p:nvPr/>
        </p:nvSpPr>
        <p:spPr>
          <a:xfrm rot="5400000">
            <a:off x="2973960" y="2072520"/>
            <a:ext cx="1600200" cy="973080"/>
          </a:xfrm>
          <a:prstGeom prst="parallelogram">
            <a:avLst>
              <a:gd name="adj" fmla="val 4111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Kej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4920" y="1523880"/>
            <a:ext cx="8534160" cy="6098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超级电容器技术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4920" y="2273400"/>
            <a:ext cx="8534160" cy="62208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超级电容器在电动汽车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4920" y="3035160"/>
            <a:ext cx="8534160" cy="6224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超级电容器在规模储能中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3797280"/>
            <a:ext cx="8534160" cy="5461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超级电容器的技术发展动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4920" y="4495680"/>
            <a:ext cx="85341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4" dur="1000" fill="hold"/>
                                        <p:tgtEl>
                                          <p:spTgt spid="5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结束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/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机体系超级电容器，是回收刹车能量的首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适合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在电动轻轨、混合电动车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457200" y="2438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池中引入活性炭，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善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寿命和功率性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在起停式、增程式、混动及储能中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457200" y="35053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级电容炭，是薄弱环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我国已有初步基础，应该大力支持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6"/>
          <p:cNvSpPr/>
          <p:nvPr/>
        </p:nvSpPr>
        <p:spPr>
          <a:xfrm>
            <a:off x="457200" y="45720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电池与电容器合理并联，在某些储能电站中有优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高功率锂离子电池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Wh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价，比超级电容器低几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比能量高一个量级，是竞争对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9400" y="5419800"/>
            <a:ext cx="1034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寿命稍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杨院士论文集封面"/>
          <p:cNvPicPr/>
          <p:nvPr/>
        </p:nvPicPr>
        <p:blipFill>
          <a:blip r:embed="rId1"/>
          <a:stretch/>
        </p:blipFill>
        <p:spPr>
          <a:xfrm>
            <a:off x="0" y="0"/>
            <a:ext cx="47689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3"/>
          <p:cNvGrpSpPr/>
          <p:nvPr/>
        </p:nvGrpSpPr>
        <p:grpSpPr>
          <a:xfrm>
            <a:off x="4375080" y="0"/>
            <a:ext cx="4768920" cy="6858000"/>
            <a:chOff x="4375080" y="0"/>
            <a:chExt cx="4768920" cy="6858000"/>
          </a:xfrm>
        </p:grpSpPr>
        <p:pic>
          <p:nvPicPr>
            <p:cNvPr id="510" name="Picture 3" descr="杨院士论文集封面"/>
            <p:cNvPicPr/>
            <p:nvPr/>
          </p:nvPicPr>
          <p:blipFill>
            <a:blip r:embed="rId2"/>
            <a:stretch/>
          </p:blipFill>
          <p:spPr>
            <a:xfrm>
              <a:off x="4375080" y="0"/>
              <a:ext cx="4768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Rectangle 2"/>
            <p:cNvSpPr/>
            <p:nvPr/>
          </p:nvSpPr>
          <p:spPr>
            <a:xfrm>
              <a:off x="4800600" y="2438280"/>
              <a:ext cx="1600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"/>
            <p:cNvSpPr/>
            <p:nvPr/>
          </p:nvSpPr>
          <p:spPr>
            <a:xfrm>
              <a:off x="6477120" y="152388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黑体"/>
                  <a:ea typeface="黑体"/>
                </a:rPr>
                <a:t>续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>
              <a:off x="4375080" y="0"/>
              <a:ext cx="0" cy="685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8"/>
            <p:cNvSpPr/>
            <p:nvPr/>
          </p:nvSpPr>
          <p:spPr>
            <a:xfrm>
              <a:off x="4952880" y="6270480"/>
              <a:ext cx="236232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Oval 9"/>
            <p:cNvSpPr/>
            <p:nvPr/>
          </p:nvSpPr>
          <p:spPr>
            <a:xfrm>
              <a:off x="7467480" y="6302520"/>
              <a:ext cx="163800" cy="17460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Rectangle 2"/>
          <p:cNvSpPr/>
          <p:nvPr/>
        </p:nvSpPr>
        <p:spPr>
          <a:xfrm>
            <a:off x="2895480" y="2895480"/>
            <a:ext cx="3810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33cc"/>
                </a:solidFill>
                <a:latin typeface="Arial"/>
                <a:ea typeface="华文彩云"/>
              </a:rPr>
              <a:t>谢谢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752480" y="2673360"/>
            <a:ext cx="5094360" cy="1117440"/>
            <a:chOff x="1752480" y="2673360"/>
            <a:chExt cx="5094360" cy="1117440"/>
          </a:xfrm>
        </p:grpSpPr>
        <p:sp>
          <p:nvSpPr>
            <p:cNvPr id="64" name="AutoShape 3"/>
            <p:cNvSpPr/>
            <p:nvPr/>
          </p:nvSpPr>
          <p:spPr>
            <a:xfrm>
              <a:off x="4398840" y="2841480"/>
              <a:ext cx="144720" cy="8636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4"/>
            <p:cNvSpPr/>
            <p:nvPr/>
          </p:nvSpPr>
          <p:spPr>
            <a:xfrm>
              <a:off x="4541760" y="2673360"/>
              <a:ext cx="23050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金属氧化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5"/>
            <p:cNvSpPr/>
            <p:nvPr/>
          </p:nvSpPr>
          <p:spPr>
            <a:xfrm>
              <a:off x="4541760" y="3206520"/>
              <a:ext cx="230508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导电聚合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1752480" y="2859120"/>
              <a:ext cx="28195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准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赝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电容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7"/>
          <p:cNvGrpSpPr/>
          <p:nvPr/>
        </p:nvGrpSpPr>
        <p:grpSpPr>
          <a:xfrm>
            <a:off x="1752480" y="1039680"/>
            <a:ext cx="5816880" cy="1230840"/>
            <a:chOff x="1752480" y="1039680"/>
            <a:chExt cx="5816880" cy="1230840"/>
          </a:xfrm>
        </p:grpSpPr>
        <p:sp>
          <p:nvSpPr>
            <p:cNvPr id="69" name="AutoShape 8"/>
            <p:cNvSpPr/>
            <p:nvPr/>
          </p:nvSpPr>
          <p:spPr>
            <a:xfrm>
              <a:off x="4402080" y="1290600"/>
              <a:ext cx="144360" cy="863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4545000" y="1039680"/>
              <a:ext cx="302436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无机体系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C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4546440" y="1616040"/>
              <a:ext cx="295128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有机体系</a:t>
              </a:r>
              <a:r>
                <a:rPr b="1" lang="en-US" sz="3200" spc="-1" strike="noStrike">
                  <a:solidFill>
                    <a:srgbClr val="a50021"/>
                  </a:solidFill>
                  <a:latin typeface="黑体"/>
                  <a:ea typeface="黑体"/>
                </a:rPr>
                <a:t>C/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1752480" y="1387440"/>
              <a:ext cx="2819520" cy="6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双电层电容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2"/>
          <p:cNvGrpSpPr/>
          <p:nvPr/>
        </p:nvGrpSpPr>
        <p:grpSpPr>
          <a:xfrm>
            <a:off x="362520" y="1649520"/>
            <a:ext cx="1314000" cy="2903040"/>
            <a:chOff x="362520" y="1649520"/>
            <a:chExt cx="1314000" cy="2903040"/>
          </a:xfrm>
        </p:grpSpPr>
        <p:sp>
          <p:nvSpPr>
            <p:cNvPr id="74" name="AutoShape 13"/>
            <p:cNvSpPr/>
            <p:nvPr/>
          </p:nvSpPr>
          <p:spPr>
            <a:xfrm>
              <a:off x="1447920" y="1649520"/>
              <a:ext cx="228600" cy="25815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7320 h 2581560"/>
                <a:gd name="textAreaBottom" fmla="*/ 2514240 h 25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4"/>
            <p:cNvSpPr/>
            <p:nvPr/>
          </p:nvSpPr>
          <p:spPr>
            <a:xfrm>
              <a:off x="362520" y="1868040"/>
              <a:ext cx="115524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超级电容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5"/>
          <p:cNvSpPr/>
          <p:nvPr/>
        </p:nvSpPr>
        <p:spPr>
          <a:xfrm>
            <a:off x="609480" y="4952880"/>
            <a:ext cx="7925040" cy="10321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/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机体系超级电容器：高功率、长寿命和较高能量密度，是混合电动汽车、城轨的首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6"/>
          <p:cNvSpPr/>
          <p:nvPr/>
        </p:nvSpPr>
        <p:spPr>
          <a:xfrm>
            <a:off x="2209680" y="21891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.7V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~7Wh/kg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2-12kW/kg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a50021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581120" y="3720960"/>
            <a:ext cx="2830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混合电容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"/>
          <p:cNvGrpSpPr/>
          <p:nvPr/>
        </p:nvGrpSpPr>
        <p:grpSpPr>
          <a:xfrm>
            <a:off x="1905120" y="3733920"/>
            <a:ext cx="7009920" cy="1016640"/>
            <a:chOff x="1905120" y="3733920"/>
            <a:chExt cx="7009920" cy="1016640"/>
          </a:xfrm>
        </p:grpSpPr>
        <p:sp>
          <p:nvSpPr>
            <p:cNvPr id="80" name="Rectangle 19"/>
            <p:cNvSpPr/>
            <p:nvPr/>
          </p:nvSpPr>
          <p:spPr>
            <a:xfrm>
              <a:off x="4041000" y="3733920"/>
              <a:ext cx="43837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如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C/KOH/NiOO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1905120" y="4254480"/>
              <a:ext cx="70099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.3/1.6V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~12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Wh/kg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0.6~3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kW/kg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，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1"/>
          <p:cNvSpPr/>
          <p:nvPr/>
        </p:nvSpPr>
        <p:spPr>
          <a:xfrm>
            <a:off x="1166760" y="304920"/>
            <a:ext cx="6808680" cy="70164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超级电容器技术现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04920" y="21276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超级电容器产品的主要生产企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934920" y="990720"/>
            <a:ext cx="7904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金正平（石家庄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C 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叠层炭粉，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巨容公司（哈滨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Ni(OH)2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奥威公司（上海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Ni(OH)</a:t>
            </a:r>
            <a:r>
              <a:rPr b="1" lang="en-US" sz="2800" spc="-1" strike="noStrike" baseline="-25000">
                <a:solidFill>
                  <a:srgbClr val="00004c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 baseline="-25000">
                <a:solidFill>
                  <a:srgbClr val="00004c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集星公司（北京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C 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卷饶炭布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锦州凯美（锦州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C 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卷饶炭粉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双登公司（江苏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Ni(OH)</a:t>
            </a:r>
            <a:r>
              <a:rPr b="1" lang="en-US" sz="2800" spc="-1" strike="noStrike" baseline="-25000">
                <a:solidFill>
                  <a:srgbClr val="00004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 baseline="-25000">
                <a:solidFill>
                  <a:srgbClr val="00004c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KOH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新能源    （东莞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C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小型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合众汇能（北京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C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今朝时代（深圳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C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3000F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东莞鹏辉（东莞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C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山东海特（枣庄）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——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C / C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凯迈嘉华  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洛阳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)   —— C / C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南车          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宁波</a:t>
            </a:r>
            <a:r>
              <a:rPr b="1" lang="en-US" sz="2800" spc="-1" strike="noStrike">
                <a:solidFill>
                  <a:srgbClr val="00004c"/>
                </a:solidFill>
                <a:latin typeface="Arial"/>
                <a:ea typeface="黑体"/>
              </a:rPr>
              <a:t>)   —— C / C</a:t>
            </a:r>
            <a:r>
              <a:rPr b="1" lang="zh-CN" sz="2800" spc="-1" strike="noStrike">
                <a:solidFill>
                  <a:srgbClr val="00004c"/>
                </a:solidFill>
                <a:latin typeface="Arial"/>
                <a:ea typeface="黑体"/>
              </a:rPr>
              <a:t>，有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57200" y="3429000"/>
          <a:ext cx="8302680" cy="297828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990360"/>
                <a:gridCol w="990720"/>
                <a:gridCol w="990720"/>
                <a:gridCol w="838080"/>
                <a:gridCol w="1901880"/>
              </a:tblGrid>
              <a:tr h="79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电容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类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34e5d"/>
                        </a:gs>
                        <a:gs pos="100000">
                          <a:srgbClr val="298aa3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额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电压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/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34e5d"/>
                        </a:gs>
                        <a:gs pos="100000">
                          <a:srgbClr val="298aa3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容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/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34e5d"/>
                        </a:gs>
                        <a:gs pos="100000">
                          <a:srgbClr val="298aa3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内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m</a:t>
                      </a: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34e5d"/>
                        </a:gs>
                        <a:gs pos="100000">
                          <a:srgbClr val="298aa3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重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34e5d"/>
                        </a:gs>
                        <a:gs pos="100000">
                          <a:srgbClr val="298aa3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尺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华文中宋"/>
                        </a:rPr>
                        <a:t>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34e5d"/>
                        </a:gs>
                        <a:gs pos="100000">
                          <a:srgbClr val="298aa3"/>
                        </a:gs>
                      </a:gsLst>
                      <a:lin ang="0"/>
                    </a:gradFill>
                  </a:tcPr>
                </a:tc>
              </a:tr>
              <a:tr h="77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凯迈嘉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53c57"/>
                        </a:gs>
                        <a:gs pos="50000">
                          <a:srgbClr val="bbe0e3"/>
                        </a:gs>
                        <a:gs pos="100000">
                          <a:srgbClr val="253c5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功率型（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P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0.28</a:t>
                      </a:r>
                      <a:r>
                        <a:rPr b="1" lang="zh-CN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0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黑体"/>
                          <a:ea typeface="黑体"/>
                        </a:rPr>
                        <a:t>60×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美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Max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53c57"/>
                        </a:gs>
                        <a:gs pos="50000">
                          <a:srgbClr val="bbe0e3"/>
                        </a:gs>
                        <a:gs pos="100000">
                          <a:srgbClr val="253c5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功率型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P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2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Cyrl-AZ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×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韩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中宋"/>
                        </a:rPr>
                        <a:t>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53c57"/>
                        </a:gs>
                        <a:gs pos="50000">
                          <a:srgbClr val="bbe0e3"/>
                        </a:gs>
                        <a:gs pos="100000">
                          <a:srgbClr val="253c57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方形电容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5×55×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57200" y="380880"/>
          <a:ext cx="8305920" cy="2746440"/>
        </p:xfrm>
        <a:graphic>
          <a:graphicData uri="http://schemas.openxmlformats.org/drawingml/2006/table">
            <a:tbl>
              <a:tblPr/>
              <a:tblGrid>
                <a:gridCol w="1600200"/>
                <a:gridCol w="990720"/>
                <a:gridCol w="1143000"/>
                <a:gridCol w="1143000"/>
                <a:gridCol w="1218960"/>
                <a:gridCol w="1143000"/>
                <a:gridCol w="106704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d7e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电容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d7e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直流内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d7e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质量比能量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Wh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d7e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体积比能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Wh/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d7e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质量比功率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kW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d7e1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短路电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d7e1f5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美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M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韩国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N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0.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1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南车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黑体"/>
                          <a:ea typeface="黑体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0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7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6.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12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solidFill>
                      <a:srgbClr val="f9fcd0"/>
                    </a:solidFill>
                  </a:tcPr>
                </a:tc>
              </a:tr>
            </a:tbl>
          </a:graphicData>
        </a:graphic>
      </p:graphicFrame>
    </p:spTree>
  </p:cSld>
  <p:transition advTm="21000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447920" y="1752480"/>
            <a:ext cx="72388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高性能、低成本电容炭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高电导率电解液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低内阻电极工艺与制造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超级电容器单体技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超级电容器组合模块技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133720" y="9144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0e1e"/>
                </a:solidFill>
                <a:latin typeface="黑体"/>
                <a:ea typeface="黑体"/>
              </a:rPr>
              <a:t>超级电容器关键技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9000">
    <p:pull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826920" y="1413000"/>
            <a:ext cx="74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多孔电容炭材料性能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541520" y="2104920"/>
            <a:ext cx="655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表面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 1000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孔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理的孔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导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堆积比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纯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灰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0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性价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对电解液具有良好的浸润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Times New Roman"/>
              </a:rPr>
              <a:t>8</a:t>
            </a:r>
            <a:r>
              <a:rPr b="1" i="1" lang="zh-CN" sz="2800" spc="-1" strike="noStrike">
                <a:solidFill>
                  <a:srgbClr val="a50021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黑体"/>
              </a:rPr>
              <a:t>析气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7093080" y="2449440"/>
            <a:ext cx="1366560" cy="28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各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标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相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矛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6477120" y="228600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6"/>
          <p:cNvSpPr/>
          <p:nvPr/>
        </p:nvSpPr>
        <p:spPr>
          <a:xfrm>
            <a:off x="6858000" y="2446200"/>
            <a:ext cx="3049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6629400" y="51814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6858000" y="4648320"/>
            <a:ext cx="3049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755640" y="7714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关键技术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高性能、低成本电容炭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0e1e"/>
                </a:solidFill>
                <a:latin typeface="黑体"/>
                <a:ea typeface="黑体"/>
              </a:rPr>
              <a:t>超级电容器关键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ang</cp:lastModifiedBy>
  <dcterms:modified xsi:type="dcterms:W3CDTF">2014-06-30T06:21:45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